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7D63-A9C5-4061-9B88-B0F0E053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E4F0-EC71-4742-A312-0C59F4DF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9754-6A3D-4853-A0D8-6C43832E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D5D9-4BA3-435E-BA79-8BCE34F8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0A70-E083-4E76-B503-8FBAABC94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BDB9-DBE7-4CA2-B8FD-49FFFA02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1DC7-0AA1-44FE-BF96-6A6F16DB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B0AF-448D-4253-9948-90BFFAC6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14CB-3B61-451F-86B8-5596719C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815C-EBC6-46C8-BB4D-48086E9C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4099-3958-4D9A-920B-A7F36519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8D78-CC34-48CA-AA97-2F961E69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EA06-9748-4EE1-B8BD-817E3D0F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2E73-EE68-416D-B21F-5D16FED2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60DF-F9B9-426B-90B3-FFD5C9BF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4065-A9A6-4FD7-9C13-1A0E1AA2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76D4-F21F-4FF7-AD8F-CE757AC1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1D2A-66F0-4FE4-900F-14CE6A18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1BA4-FD3E-4F41-A478-B23A6146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3FE3-7D5A-4399-9CF9-F626442C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9AF7-1520-40F5-AACE-3CCF67C4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0154-182E-41A4-A9B2-88720BB4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9F60-E748-4C18-BA14-C2ACECC1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9179-58B2-474F-A58F-6E223F24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7476-7795-4916-8F53-49CAC6727B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7BBF-88F4-4D9A-A554-42ABED0A9C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6858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Языки представления онтологий: RDF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, OWL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Язык запросов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PARQ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87280" y="365760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D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OW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росы к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DF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WL: SPARQ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Перечень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классов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RDFS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9880" y="990720"/>
          <a:ext cx="7670880" cy="532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990720"/>
                    <a:ext cx="7670880" cy="53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Перечень свойств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RDF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39680" y="838080"/>
          <a:ext cx="9144000" cy="57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838080"/>
                    <a:ext cx="9144000" cy="57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Реификация</a:t>
            </a:r>
            <a:br>
              <a:rPr sz="3800"/>
            </a:b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или материализация утверждений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реификации прибегают, когда необходимо сделать утверждение об утвержден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этого используется специальный класс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rdf:Statement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е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df:subjec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df:predicate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df:objec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о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F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тверждение является экземпляром класса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rdf: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Пример (начало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верждение об авторстве исходного утвержде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верждение 1: «товар Т имеет цену х». Допустим, что оно сделано Ивановым Иваном Ивановичем на язы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уется высказать утверждение 2 о том, что именно Иванов И.И. сделал утверждение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Пример (продолжение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овар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rdf:Property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меет ц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Цен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df:Statem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тверждени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df:subjec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df:predicate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меет цену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df:objec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rdf:Statement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тверждение 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rdf:Property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делано автором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еловек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ванов Иван Иванович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ажный момент: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Косвенные утвер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657600" y="5791320"/>
            <a:ext cx="1981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2895480"/>
            <a:ext cx="2133720" cy="7621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96080" y="5257800"/>
            <a:ext cx="1447920" cy="571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105520"/>
            <a:ext cx="1447920" cy="571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489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Пример (окончание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57680" y="3365640"/>
            <a:ext cx="3276360" cy="7617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5791320"/>
            <a:ext cx="1796760" cy="723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56000" y="6167520"/>
            <a:ext cx="2695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7960" y="5896080"/>
            <a:ext cx="1347840" cy="542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5638680"/>
            <a:ext cx="26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еет це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30280" y="5867280"/>
            <a:ext cx="51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59560" y="588168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56080" y="35434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твержден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990720"/>
            <a:ext cx="4038480" cy="723960"/>
          </a:xfrm>
          <a:prstGeom prst="ellipse">
            <a:avLst/>
          </a:prstGeom>
          <a:solidFill>
            <a:srgbClr val="cc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90920" y="110484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ванов Иван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1752480"/>
            <a:ext cx="75960" cy="1600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8880" y="23623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делано авт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4419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df:su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4419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df:pred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48520" y="4419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df: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238880" y="30481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df: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437920" y="3962520"/>
            <a:ext cx="68580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3962520"/>
            <a:ext cx="838440" cy="190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41148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04240" y="53341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5181480"/>
            <a:ext cx="10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ов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563868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5867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0120" y="6019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7391520" y="5791320"/>
            <a:ext cx="76176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3124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095880" y="3429000"/>
            <a:ext cx="91440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10280" y="1295280"/>
            <a:ext cx="1752840" cy="7621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1520" y="14479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16765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6019560" y="1523880"/>
            <a:ext cx="990360" cy="15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495288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Возможности RDF, RDF Schem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773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бщенный способ работы с метаданн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иентирован на программное обеспечение в качестве конечного потребителя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воляет осуществлять автоматическую обработку Web-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и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аталогиза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енерацию иерархических карт сай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868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Ограничения языка RDF, RDF Schem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000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крытость и расширяемость RDF ведет к тому, что «кто угодно (т.е. любой пользователь RDF) может сказать что угодно (т.е. фиксировать произвольное утверждение) о чем угодно (т.е. о любом ресурсе Сети)» используя RD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F не запрещает делать бессмысленных утверждений или утверждений не согласующихся с другими. Следовательно, нет никакой гарантии целостности и непротиворечивости RDF-опис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я ответственность за проверку целостности ложится на получателей (конечных пользователей) метаданных, т.е. на разработчиков приложений обрабатывающих RD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Способы представления RDF-описаний (1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2060640"/>
            <a:ext cx="7772400" cy="42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нтакс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?xml version="1.0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rdf:RDF xmlns:rdf="http://www.w3.org/1999/02/22-rdf-syntax-ns#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mlns:dc="http://purl.org/dc/elements/1.1/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mlns:exterms="http://www.example.org/terms/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rdf:Description rdf:about="http://www.example.org/index.html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exterms:creation-date&gt;August 16, 1999&lt;/exterms:creation-da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rdf:Descripti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rdf:Description rdf:about="http://www.example.org/index.html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dc:language&gt;en&lt;/dc:languag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rdf:Descripti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rdf:RDF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Способы представления RDF-описаний (2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-Triples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интаксис (удобный для чтения человеком, но еще и расширяющий исходную модель RDF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ex:index.htm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dc:creat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          exstaff:85740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ex:index.htm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exterms:creation-d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"August 16, 1999"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ex:index.htm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dc:languag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         "en"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DF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98864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RDFS – язык описания словарей для RD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RDF Schema определяет классы, свойства  и другие ресур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RDFS является семантическим расширением RD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Краткие итоги (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DF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73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F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зык описания метаданных в 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ь данны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F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риентированный гра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F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 строится на основе элементарных высказываний (триплет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 высказываний – бинарное отношение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,P,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чрезвычайно выразителен (кто угодно может сказать что угодно о чем угод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F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лужит для определения словаре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W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7612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L (Web Ontology Language)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зык представления онтологий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Фактически это словарь расширяющий набор терминов определенны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F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L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тологии могут содержать описания классов, свойств и их экземпля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Исторические предшественники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L, OIL, SHO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ляется рекомендацие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3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объединяет лучшие черты своих предшествен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219320" y="3733920"/>
            <a:ext cx="66862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Три диалекта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L Lit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просто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L DL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нота и разрешим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L Ful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выразительная мощ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из этих диалектов (кром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является расширением предыду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следств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а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L Lite онтология являетс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L DL онтолог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й, а люба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L DL онтология является OWL Full онтолог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а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OWL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онтологии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голо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ерс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меч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мпортируемые онтолог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писания классов, свойств и индивидов в форме акси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OWL. Базовые элементы. Классы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98864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чия в смысл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l:Class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диалект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 клас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OWL. Базовые элементы. Классы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способов определения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. идентификатором класса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 перечислением всех экземпляров клас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 ограничением свой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. пересечением 2 и более определений класс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5. объединением 2 и более определений класс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6. дополнением определения клас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OWL. Базовые элементы. Классы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стейшая аксио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пределяющая именованный клас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owl:Class rdf:ID="Human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что постулирует эта аксиома – существование класса с именем “Human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тру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определения сложных аксиом класс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dfs:subClass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ворит о том, что экстенсионал одного класса (подкласс) полностью входит в экстенсионал другого (надклас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wl:equivalentClas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говорит о том, что экстенсионалы двух классов совпад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wl:disjointWit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говорит о том, что экстенсионалы двух классов не пересека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OWL. Базовые элементы. Свойства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е основные категор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вой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ъектные свойства (owl:ObjectPropert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вязывают между собой индивиды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войства-значения (owl:DatatypePropert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вязывают индивиды со значениями данны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а класса свойств являются подклассами класс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f: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тейший пример аксиомы свойств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owl:ObjectProperty rdf:ID="hasParent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ё что постулирует эта аксиома – существование некоторого свойства "hasParent" связывающего экземпляр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l:Thing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 с дру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36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OWL. Базовые элементы. Свойства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7724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трукции для построения аксиом свойств (начало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нструкции RDF Schema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100" spc="-1" strike="noStrike">
                <a:solidFill>
                  <a:srgbClr val="000000"/>
                </a:solidFill>
                <a:latin typeface="Courier New"/>
              </a:rPr>
              <a:t>rdfs:subPropertyOf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определяет подсвойство данного свойства)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Courier New"/>
              </a:rPr>
              <a:t>rdfs:domain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определяет домен) 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Courier New"/>
              </a:rPr>
              <a:t>rdfs:range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определяет диапазон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тношения между свойства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100" spc="-1" strike="noStrike">
                <a:solidFill>
                  <a:srgbClr val="000000"/>
                </a:solidFill>
                <a:latin typeface="Courier New"/>
              </a:rPr>
              <a:t>owl:equivalentProperty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определяет эквивалентное свойство) и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Courier New"/>
              </a:rPr>
              <a:t>owl:inverseOf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определяет обратное свойство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Система классов и свойств языка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RDF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905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ой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дом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диапаз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авнение с системой классов ОО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77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OWL. Базовые элементы. Свойства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трукции для построения аксиом свойств (оконча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граничения глобальной кардинальности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100" spc="-1" strike="noStrike">
                <a:solidFill>
                  <a:srgbClr val="000000"/>
                </a:solidFill>
                <a:latin typeface="Courier New"/>
              </a:rPr>
              <a:t>owl:FunctionalProperty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определяет однозначное свойство – однозначное отображение домена свойства на диапазон) и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100" spc="-1" strike="noStrike">
                <a:solidFill>
                  <a:srgbClr val="000000"/>
                </a:solidFill>
                <a:latin typeface="Courier New"/>
              </a:rPr>
              <a:t>owl:InverseFunctionalProperty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взаимоднозначное отображение домена свойства на его диапазон, т.е. определяет существование однозначного свойства обратного данному свойству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Логические характеристики свойства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ourier New"/>
              </a:rPr>
              <a:t>owl:SymmetricProperty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определяет свойство как симметричное данному) и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urier New"/>
              </a:rPr>
              <a:t>owl:TransitiveProperty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определяет транзитивное свойство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7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OWL. Базовые элементы. Индивиды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7993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дивиды определяются при помощи аксиом индивидов (факт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вида фак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Факты о членстве индивидов в классах и о значении свойств инди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Факты об идентичности инди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OWL. Базовые элементы. Индивиды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мер аксиомы первого ви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Балет rdf:ID="ЛебединоеОзеро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имеетКомпозитора rdf:resource="#Чайковский"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/Балет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ая аксиома постулирует сразу 2 фак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) существует некоторый индивид класса “Балет” имеющий имя “ЛебединоеОзеро”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б) этот индивид связан свойством “имеетКомпозитора” с индивидом: “Чайковский” (определенным где-то в другом мест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факт говорит о членстве в классе, второй – о значении свойства индив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OWL. Базовые элементы. Индивиды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описания фактов об идентичности индивидов используются аксиомы идент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помогательные констру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Courier New"/>
              </a:rPr>
              <a:t>owl:sameA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стулирует, что две ссылк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I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сылаются на один и тот же индиви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Courier New"/>
              </a:rPr>
              <a:t>owl:differentFrom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стулирует, что две ссылк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I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сылаются на разные индиви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Courier New"/>
              </a:rPr>
              <a:t>owl:AllDifferent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оставляет средство для определения списка попарно различных индиви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WL.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Базовые элементы. Пример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143000" y="752400"/>
            <a:ext cx="685800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3534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Языки запросов к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DF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хранилищам.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Логический вывод над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DF-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графами и онтологиям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ие знаний в машинопонятном формате не имело бы никакого смысла, если бы к этим знаниям нельзя было обращаться, автоматически их обрабатывать и пополн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ются две близкие 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ая задача связана с извлечением имеющихся в хранилище знаний – запросами к хранилищу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i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i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задача связана с применением логического вывода над имеющимися знаниями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i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ailme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PARQ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080" y="1600200"/>
            <a:ext cx="769644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нтаксис запро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ощен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v_list&gt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onologyURI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emplat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&gt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 &lt;filter_expr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_list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имен перем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ologyUR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сылка на онтолог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la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шабл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_exp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граничения на значения перем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PARQL (1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ы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F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виде триплето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, P, 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1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ategory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“</a:t>
            </a:r>
            <a:r>
              <a:rPr b="0" i="1" lang="ru-RU" sz="2000" spc="-1" strike="noStrike">
                <a:solidFill>
                  <a:srgbClr val="000000"/>
                </a:solidFill>
                <a:latin typeface="Courier New"/>
              </a:rPr>
              <a:t>Total Memb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1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df:value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199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2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ategory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“</a:t>
            </a:r>
            <a:r>
              <a:rPr b="0" i="1" lang="ru-RU" sz="2000" spc="-1" strike="noStrike">
                <a:solidFill>
                  <a:srgbClr val="000000"/>
                </a:solidFill>
                <a:latin typeface="Courier New"/>
              </a:rPr>
              <a:t>Total Memb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2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df:value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200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2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ategory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“CATEGORY X”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r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ategory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“CATEGORY X”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r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df:value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358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PARQL (2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4312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RQL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рос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?cat ?v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WHERE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{?x rdf:value ?val. ?x category ?c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FILTER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(?val&gt;=200)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и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ывает перемен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va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значение которых необходимо вычисл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и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кладывает шаблоны вид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P, 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и шаблона можно использовать связанные переменные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и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кладыва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ие на значения переменной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влеченных зна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емантика запрос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дайте все объекты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иката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ategory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субъект которого (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) является также субъектом предиката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df:value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со значением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val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е меньшим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200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месте со значениями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a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дать соответствующие значения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va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PARQL (3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д выполнения запро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место переменной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гут быть подставлены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o1, Foo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ar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причем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o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жет быть подставлен два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 подстановк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o1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емен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l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не удовлетворяет ограничени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предложени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TER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Во всех других случаях все условия запроса выполнены (см. результа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 выполнения запро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[["Total Members", 200], ["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CATEGORY X</a:t>
            </a: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",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200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["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CATEGORY X</a:t>
            </a: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",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358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8080" y="2057400"/>
            <a:ext cx="76964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Определим свойство «автор» с доменом «Документ» и диапазоном «Человек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457200"/>
            <a:ext cx="4190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Пример (начало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3733920"/>
            <a:ext cx="1828800" cy="1218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3434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3733920"/>
            <a:ext cx="1828800" cy="12189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3809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в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40384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ку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40384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Основные вехи на пути к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emantic Web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1371600"/>
            <a:ext cx="7162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рокое распростране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ндартов (рекомендаци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3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DF/RD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F (Rule Interchange Form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свободно распространяемых каркасов для разработк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We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ло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n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work (Ja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 RDF Parser (C#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ссовая разработка и использование онтологий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. Semantic Web 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«прилив»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SemWave0" descr=""/>
          <p:cNvPicPr/>
          <p:nvPr/>
        </p:nvPicPr>
        <p:blipFill>
          <a:blip r:embed="rId1"/>
          <a:stretch/>
        </p:blipFill>
        <p:spPr>
          <a:xfrm>
            <a:off x="609480" y="981000"/>
            <a:ext cx="8001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Вопросы к лекции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232704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чего нужен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F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реифика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отличается клас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F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класс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600200"/>
            <a:ext cx="396252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-la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RDF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ескриптивная логика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ласс («Документ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ласс («Человек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войство («автор», «Документ», «Человек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441972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лучае появления дополнительной информации о свойствах «Документа», нет необходимости изменять описание класса «Документ». Достаточно добавить новое свойство с соответствующим доме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533520"/>
            <a:ext cx="6477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Пример (окончание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1600200"/>
            <a:ext cx="2606400" cy="17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-la J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a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ласс «Докумен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Человек» «авт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Классы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(1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сурсы могут объединяться в группы называемые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лассам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лены класса называются экземплярами кла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земпляры и классы являются ресурсами RD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йство rdf:type используется для того, чтобы указать, что ресурс является экземпляром кл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Классы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(2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RDF отделяет класс от множества его экземпляров (т.н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экстенсиона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класса с одинаковыми экстенсионалами считаются различными, если они имеют разные наборы свойств 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нтенсионал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Пример (интенсионал и экстенсионал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ссмотрим множ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= {0, 2, 4, 6, 8}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 = {x, | x = 2k, k = 0..4, k - целое}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 – множество неотрицательных четных чисел меньших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ом примере множество А описывается своим экстенсионалом, множества В и С описываются интенсионалами, т.е. используя характеристические свойства данного множ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докс Расс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чательно, что RDF нарушает одну из основных аксиом теории множеств: классу RD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прещено быть экземпляром самого себ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Классы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(3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а ресурсов, являющихся классами в RDFS описывается термином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rdfs: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шение «подкласс-надкласс», описывается RDFS свойством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rdfs:subClassOf.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ой класс по определению является подклассом самого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пецификации п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FS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ы также списки, коллекции и контейнеры ресурсов, текстовые пометки и комментарии для создания удобных для чтения примечаний к ресурс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0:43:28Z</dcterms:created>
  <dc:creator>Мирослав</dc:creator>
  <dc:description/>
  <dc:language>en-US</dc:language>
  <cp:lastModifiedBy>Vladimir</cp:lastModifiedBy>
  <dcterms:modified xsi:type="dcterms:W3CDTF">2006-07-23T14:20:34Z</dcterms:modified>
  <cp:revision>144</cp:revision>
  <dc:subject/>
  <dc:title>Языки представления онтологий: RDF, OWL.</dc:title>
</cp:coreProperties>
</file>