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CD4-83D6-4DEC-A512-111BAF2F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23F-A453-478A-A19B-14BA699E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298-E12B-44F6-8601-7E1820DC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47E-C7BE-46A6-B6E9-1A403AF7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72C8-DCA8-41E6-833B-414643CF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7B3-AF49-44F9-871C-D11D6EA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C1BA-8332-47FC-BFE0-7803AB2B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97B-EF2A-4311-8761-93ED829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2DB-C286-4F71-B3D5-452568E6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C28-363E-4268-AACD-7672CA4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F20-4DBA-4C63-8D15-46DE325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C80-C300-4E88-9702-68EC2A09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251-9B83-49C6-926B-360AF55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A0E0-2D12-44A1-A116-0AE52A5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81B-E8A6-4694-BD0B-1408A52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DA0F-0E35-4EF9-8507-033E7205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7AF4-DAC8-40D5-B2B4-737BB868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925-D04F-459C-9B85-9A6E0755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AAA-04B5-437B-87B6-CA2CE2C5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78F-32E0-4330-B46E-4D9635E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273-D642-483B-9E42-8B784818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288-EE48-4446-9372-099711C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9CC-DE6A-49C9-945B-45836B7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7FB-B137-4B76-831B-80EF4C3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3156-BA91-4E53-A143-E30C4126C8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C0AA-90F8-444B-B368-613164CAE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858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рхитектура метаданных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WW.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43430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метаданн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дель данных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DF –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DF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раф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набор троек (или трипле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S,P,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икат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bject и Predicate идентифицируются при помощи U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ом может быть как ресурс, имеющий URI, так и RDF-литер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3992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DF-литералы</a:t>
            </a:r>
            <a:r>
              <a:rPr b="0" lang="en-US" sz="3800" spc="-1" strike="noStrike">
                <a:solidFill>
                  <a:srgbClr val="cccc99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символьные константы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RDF-литер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изирова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ип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й литерал имеет лексическую (словарную)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й литерал имеет необязательную ссылку на тег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ru, en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изированный литерал имеет URI тип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равнение литерал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лы равны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ки обеих лексических форм совпадают посимво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оба литерала имеют совпадающие теги языка, либо оба не имеют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бо оба литерала имеют посимвольно совпадающие URI типа данных, либо оба не имеют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пределение значения типизированного литерал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м множество {T, 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зыках программирования {1, 0} (1 соответствует T, 0 соответствует F), либо {true, false}, либо {истина, ложь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ически задается некоторое отображение множества значений истинности на множество чисел или строк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ое отображение используется при определении значения типизирован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л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о определяется по URI типа данных и зависит от конкретного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AND-список высказываний может быть представлен неупорядоченным множест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 отличаются понятия ресурс, объект и документ в контексте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модели (или формы) представления высказываний вам извест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RD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редставляет собой модель данных RDF и на чем они основ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Архитектура метаданных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. Метаданные. Связи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 baseline="-2000">
                <a:solidFill>
                  <a:srgbClr val="000000"/>
                </a:solidFill>
                <a:latin typeface="Arial"/>
              </a:rPr>
              <a:t>WWW </a:t>
            </a: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Ресурс</a:t>
            </a:r>
            <a:r>
              <a:rPr b="0" lang="en-US" sz="3600" spc="-1" strike="noStrike" baseline="-2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en-US" sz="3600" spc="-1" strike="noStrike" baseline="-2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Объек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000">
                <a:solidFill>
                  <a:srgbClr val="000000"/>
                </a:solidFill>
                <a:latin typeface="Arial"/>
              </a:rPr>
              <a:t>Метаданные</a:t>
            </a:r>
            <a:r>
              <a:rPr b="1" lang="en-US" sz="3600" spc="-1" strike="noStrike" baseline="-2000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3600" spc="-1" strike="noStrike" baseline="-2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машинопонятная информация о </a:t>
            </a:r>
            <a:r>
              <a:rPr b="0" lang="en-US" sz="3600" spc="-1" strike="noStrike" baseline="-2000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3600" spc="-1" strike="noStrike" baseline="-2000">
                <a:solidFill>
                  <a:srgbClr val="000000"/>
                </a:solidFill>
                <a:latin typeface="Arial"/>
              </a:rPr>
              <a:t> ресурсах и других сущностях</a:t>
            </a:r>
            <a:r>
              <a:rPr b="0" i="1" lang="ru-RU" sz="3600" spc="-1" strike="noStrike" baseline="-2000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кт, извлеченный из сети по протоко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ет иметь доп. информацию (Метаданны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создания или дата прекращения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сиома 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Метаданные это – данны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пособы получения и передачи мета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данные хранятся и передаются внутри документа (те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анные о докумен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Wor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метаданных происходит во врем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сервера к кли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клиента к серв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данные могут храниться в другом 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орма мета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сиома 2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а, представляемая метаданными, является набором независимых высказывани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 – атрибут – знач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E-mail – Date – 01.01.200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– From – Vasy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ид высказы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А – имя (идентификатор) для типа высказыва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сурса, о котором делается высказы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… - другие параметры зависящие от типа высказыв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странство имен атрибут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пространст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дресов для имен атриб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и с именами атриб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внутри элемен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голов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а, уточняющие атрибуты объекта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а  и 1) и 2) определены внутри конкретных специфик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с языками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од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вяз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между двумя ресурсами будем называть связ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– тип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перв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тор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ередачи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писывающаяс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раткие итоги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данные это –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данные могут ссылаться на любой ресурс,  имеющ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данные могут храниться в любом ресурсе вне зависимости от того на какой ресурс они ссыл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данные могут пониматься как набор высказываний о ресурсе в форм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раткие итоги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я, устанавливающие отношения между двумя ресурсами, называются связями и имеют форм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 высказываний (в том числе и связи) являются объектами первого класс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lass objec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.е. их можно определять в адресуемом ресурсе и ссылаться на них по адресу этого ресурса: «тип А находится в ресур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овых типов высказываний и связей выполняется так, что новые виды высказываний понимаются и людьми и П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– язык представления информации о ресурсах WW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 языка описания мета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43:28Z</dcterms:created>
  <dc:creator>Мирослав</dc:creator>
  <dc:description/>
  <dc:language>en-US</dc:language>
  <cp:lastModifiedBy>Vladimir</cp:lastModifiedBy>
  <dcterms:modified xsi:type="dcterms:W3CDTF">2006-07-23T09:03:29Z</dcterms:modified>
  <cp:revision>130</cp:revision>
  <dc:subject/>
  <dc:title>Языки представления онтологий: RDF, OWL.</dc:title>
</cp:coreProperties>
</file>