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69B-1616-4325-BA90-9D650BAB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C59F-79A5-4B9B-B4E0-BEBC205B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0B1-7AD6-413A-B239-4E175907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DF8-55A4-409C-9F27-4C9D543B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819-F6A4-409D-8E72-4A8B662F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B96-18B4-4159-A495-806FA6C6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62A-59EA-4812-B826-0120629B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504-D5BE-4268-A5E7-3C937CF8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B1C-D7F6-4177-B23B-FEEC50BF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A95-7378-43BB-ABBA-F3F687D3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2DA-3F31-49CD-98C6-EBCB0DFC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C54-637D-4410-9206-BABC2DE0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6752-E243-46AE-AE34-9B776CA10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6002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. Онтологии товаров и услуг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Фрагмент классификатора продукции ОО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2203700 Medical imaging processing equipment and supplies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2203701 Medical x ray film daylight stampers or identification printers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2203702 Medical imaging wet darkroom or daylight processors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2203703 Medical x ray passthrough boxes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2203704 Medical toners or developers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2203705 Medical imaging dry laser printers or im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убрикаторы. Особ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ерархическая структура (древоподобна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гут достигать значительной величины (20000 тысяч рубри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делении по разным основаниям могут быть близкие по смыслу рубрики-лист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возможно автоматическая классификация на основе только формулировок рубрик – необходимо каждую рубрику снабдить списком выраж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брикаторы интернет-систем по товар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ые формулиров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-15 рубрик на каждом ур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чина небольш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сложные классификаторы, и экранные рубрикаторы – виды онтолог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04920" y="-109440"/>
            <a:ext cx="9753840" cy="70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втоматическая рубрикация по товарам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nde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убрикатор: набор категорий без иерарх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 каждой категории приписан список слов и последовательностей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убрика проставляется товару, если в начале строчки встречается элементы спис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копленные списки «типов товаров» можно дополнительно использовать для контекстной рекла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значение рубрик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прос слишком общий – уточнение запроса (Щипц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прос неоднозначный – выбор значения (масло, стремян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зможность избавиться от побочных рубрик (велосипед – рубрика «Игрушки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рагмент описания рубрики «Автозапча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Г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задней рессо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задня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КАМ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М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передня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пер.ре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рессо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У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нтолог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тология это система, состоящая из набора понятий и набора утверждений об этих понятиях, на основе которых можно строить классы, объекты, отношения, функции и теор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компонен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ы или пон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си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рагмент описания рубрики «Бытовые това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БЕТ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бытов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высот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оци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сталь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и "Elk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3-х сту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5 сту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6-ти сту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8 сту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8 ступен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9 ступен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10 ступен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11 сту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янка 12 сту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брикация на специализированном интернет-сай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price.ru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ны на компьютеры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-tech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фисное оборуд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ый рубрика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е описание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упление списков товаров. Много повторов. Товары с небольшими изменени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томатизированная рубр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OntoSeek - Content-Based Access to the Web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arino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 – 1996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ья – 1999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иск товаров «по смыслу»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таксоном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ботка синоним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рос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услуги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ботка видов и конкретных мар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рос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услуги 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ep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аксономия публика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cle in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erence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exp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иск товаров «по смыслу» - семантический разбор за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рос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obile 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услуг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obile radio and stereo retail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 repair and retail 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ие товара (услуги) как набор атрибут – значение_атрибу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04920" y="-109440"/>
            <a:ext cx="9753840" cy="70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09440"/>
            <a:ext cx="9753840" cy="70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блемы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tos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жна большая лингвистическая онтология товаров с подробными списками текстовых вариантов. Вместе это предполагается использовать лингвистическую онтологию общего назнач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ая онтология должна включать не только типы товаров, но и конкретные марки тов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ому понятию онтологии должна быть приписана совокупность языковых выражений – в реальных прайсах много сокращ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ое понятие должно иметь внутреннюю структуру – набор (атрибут – значение атрибу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блемы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toseek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товар в прайсах – нужно представить в формализованном вид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гозначность слов в описаниях товаров и в запрос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109440"/>
            <a:ext cx="9753840" cy="70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109440"/>
            <a:ext cx="9753840" cy="70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ношения в (К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-of-pro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-on-Pro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il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-of-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04920" y="-109440"/>
            <a:ext cx="9753840" cy="70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 к ле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рубрикатор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рубрикаторов в интернет-системах по товарам и услуг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oseek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проблемы пословного поиска и какими средствами предполагалось реша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 аксио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, являющийся руководителем проекта, работает в проек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менные Е, 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all (E,P) Employee (E) and Head-Of-Project (E,P) =&gt; Works-At-Project (E,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56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Лингвистические онтоло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characteristic of this   kind of ontologies is that they are bound   to the semantics of grammatical units   (words, nominal groups, etc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ой источник понятий в онтологи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значения языковых единиц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нгвистические онтологии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WordNet, Mikrokosmos, Sensu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уТез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бор информации о товар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ение информации о това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товаров – разделение по назначен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иск по товар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 банне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 текстов (обзоров, новостей, форумов) по товар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истемы по товара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щего назна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ogl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froogle.c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ндекс. Марк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чное занесение тов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чная классифик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ындекс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tyndex.r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атизированный поиск новых прайс-ли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атический разбор прай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атическая рубрик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убрикаторы проду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российский классификатор продукции (ОКП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моженная номенклатура внешнеэкономической деятельности (ТНВЭ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United Nations Standard Products and Services Code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PS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1:22Z</dcterms:created>
  <dc:creator>boris</dc:creator>
  <dc:description/>
  <dc:language>en-US</dc:language>
  <cp:lastModifiedBy>Vladimir</cp:lastModifiedBy>
  <dcterms:modified xsi:type="dcterms:W3CDTF">2006-07-23T09:10:22Z</dcterms:modified>
  <cp:revision>27</cp:revision>
  <dc:subject/>
  <dc:title>Онтологии и автоматическая обработка текстов - 2  </dc:title>
</cp:coreProperties>
</file>