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12E-1435-4CB0-86A9-87C9B2E1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C9E-FCA4-496A-86DB-0B78BE81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281-49FC-4B3A-AA02-90A883D7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E2F-1A4D-4177-86F5-08F84E7B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9EE2-1B9C-44B2-8352-F4C2CB60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2E3B-A8DA-4C5E-A222-94503F0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FDB3-B19C-4AD5-A789-8ABFF1BF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1918-EB4F-4911-8277-BCF246F1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FFF3-7DB0-4E92-B390-F8FAED3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6C73-7766-4A50-A21C-CE3506A9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A163-7F5B-4796-9E04-5F2FD06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DD1-127A-412B-B2C2-B7D3764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5981-5BAE-41DA-9245-D89996F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397A-8AFC-4998-A6BE-148CD3F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482C-D581-4194-B7A3-C9AE3C5F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7706-8975-4636-81F7-2F7616DB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E3B2-C0A3-4759-B9F0-AFCEF1E3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BB4-3340-4C4B-9DBD-8C3B5EC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7F4-2938-4499-A978-D83A1EE6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9EF-5988-4236-BCFB-C87E97F7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490-935D-4312-BA49-45C6247A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408-6C4D-4EDA-8023-ED53D8B2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66E-B6B7-4A60-B60A-0D2F054D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15B-7F94-4F75-8EDD-E7A954C6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0A57-274C-47E1-BAE6-F18778916C7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83D-1F80-42FC-975E-6592207F8D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elsinki.fi/university/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hiit.fi/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pengalen.org/" TargetMode="External"/><Relationship Id="rId2" Type="http://schemas.openxmlformats.org/officeDocument/2006/relationships/hyperlink" Target="http://www.nih.gov/research/umls/" TargetMode="External"/><Relationship Id="rId3" Type="http://schemas.openxmlformats.org/officeDocument/2006/relationships/hyperlink" Target="http://saussure.irmkant.rm.cnr.it/ON9/index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2portal.aifb.uni-karlsruhe.de/" TargetMode="External"/><Relationship Id="rId2" Type="http://schemas.openxmlformats.org/officeDocument/2006/relationships/hyperlink" Target="http://www.esperonto.net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 и прикладные онтолог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тология в области документации сферы культурного наследия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DO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3860640"/>
            <a:ext cx="7467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тологии предмет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адные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толог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DOC 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2184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аткая справка п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нтологиям проект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1679040"/>
            <a:ext cx="57150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бор онт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ле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тефакты (около 4000 концепт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ы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ографические Ме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ту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бщее число концептов около 1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а онтологи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A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нский тезаурус культур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6000 термин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University of Helsin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3562200" cy="149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Tietojenkäsittelytieteen tutkimuslaitos HII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3124080"/>
            <a:ext cx="2808360" cy="1306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: культура (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C81-26E9-47D6-9BE1-55C356EF98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35809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тология верхнего уровня для данной предмет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нцеп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личных отношений между концеп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стимость с многими форматами мета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ется в ряде крупных проект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MIDAS X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ST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ULPTEUR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ST Project I-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/CD 2112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200400" cy="133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205080" cy="1312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11480" y="16002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http://cidoc.ics.forth.g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86104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тология в области документации сферы культурного наследия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DO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onceptual Reference Model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3D8-2DF9-4252-B5F5-35EF76BA3A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96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ерархия классо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DO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533520"/>
          <a:ext cx="7127640" cy="6324480"/>
        </p:xfrm>
        <a:graphic>
          <a:graphicData uri="http://schemas.openxmlformats.org/drawingml/2006/table">
            <a:tbl>
              <a:tblPr/>
              <a:tblGrid>
                <a:gridCol w="682560"/>
                <a:gridCol w="279360"/>
                <a:gridCol w="279360"/>
                <a:gridCol w="304920"/>
                <a:gridCol w="360360"/>
                <a:gridCol w="360360"/>
                <a:gridCol w="486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CRM-</a:t>
                      </a: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ременная Су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ы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иобре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ередача на хра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воение атрибу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й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уществ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згото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217520"/>
            <a:ext cx="8142120" cy="5640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рагмент онтологи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DO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графическое представл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60440"/>
            <a:ext cx="411480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ерархия классов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CIDOC СRM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175280" y="0"/>
          <a:ext cx="4816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0"/>
                    <a:ext cx="4816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BB2-1161-4E76-AC8B-471130D808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143160" y="0"/>
          <a:ext cx="600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0"/>
                    <a:ext cx="600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350532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Иерархия свойств CIDOC СR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500-B677-4C82-ABB9-C4D4E1531E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Вопросы к лекци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онтологии из области медицины Вам извест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числ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личительные черты прикладных онтолог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олько концептов содержит онтология CIDOC C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67C-B8E3-4CA7-A89B-C87881D292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: медицина (1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86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GALEN (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http://www.opengalen.org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MLS (Unified Medical Language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http://www.nih.gov/research/umls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N9 (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http://saussure.irmkant.rm.cnr.it/ON9/index.htm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5E7-187B-4551-9843-DAE7AB720B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: медицина (2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528920"/>
          <a:ext cx="914400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8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3E9-664A-42CB-AA62-A15EA64725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895480" y="917640"/>
          <a:ext cx="6248520" cy="59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917640"/>
                    <a:ext cx="624852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: инженерные онтологии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971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g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hysS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020-2A15-44C2-A47F-98349AEB74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: управление знаниями (1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тология (KA)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http://ka2portal.aifb.uni-karlsruhe.d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 Esperont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http://www.esperonto.net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B08-64B8-47E2-A341-7369314DE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170000"/>
            <a:ext cx="8915400" cy="568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: управление знаниями (2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464-2E80-42DF-B2F9-6A0EFAEACA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: культура (1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290600"/>
          <a:ext cx="914400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0600"/>
                    <a:ext cx="91440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28600" y="762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толог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DOC CRM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cidoc.ics.forth.gr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5F0-C6DE-4E32-B8DA-4148CFB490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: культура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nav_logo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438280" cy="547560"/>
          </a:xfrm>
          <a:prstGeom prst="rect">
            <a:avLst/>
          </a:prstGeom>
          <a:ln w="0">
            <a:noFill/>
          </a:ln>
        </p:spPr>
      </p:pic>
      <p:pic>
        <p:nvPicPr>
          <p:cNvPr id="118" name="header_aat_main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6629400" cy="76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4038480"/>
            <a:ext cx="8686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A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заурус по архитектуре и искус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более 133 тыс. терминов, описаний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графических цитат и другой информации 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у, архитектуре, архивным материал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 материаль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" y="3200400"/>
            <a:ext cx="70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http://www.getty.edu/research/conducting_research/vocabularies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3F8-9DE4-443F-A82F-55F8F062CD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nish Museums on the Semantic We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M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http://museosuomi.cs.helsinki.f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273320"/>
            <a:ext cx="9144000" cy="5584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9840" y="0"/>
            <a:ext cx="8795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: культура (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0:10:36Z</dcterms:created>
  <dc:creator>Мирослав</dc:creator>
  <dc:description/>
  <dc:language>en-US</dc:language>
  <cp:lastModifiedBy>Vladimir</cp:lastModifiedBy>
  <dcterms:modified xsi:type="dcterms:W3CDTF">2006-07-23T09:32:46Z</dcterms:modified>
  <cp:revision>101</cp:revision>
  <dc:subject/>
  <dc:title>Редакторы онтологий</dc:title>
</cp:coreProperties>
</file>