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08D4-FFCA-4BE0-8799-F465DE4E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F964-29C2-48F5-925A-04081B06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15D9-BDEA-4505-A521-E458B5E9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7B69-744B-4CE6-B669-21AFF70F2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0174-7105-4BC5-8CFF-3320CB15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C32E-6626-4166-93C4-12ABFFF7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10EE-0C87-41D3-A2C0-D810C096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0C2B-527B-4CA1-B823-32657C5E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679B-77D5-4049-9FD6-B2B0D2CB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4043-0F9B-4AB7-A0D0-1A7AADF5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21C3-321F-473C-BD6E-E6CC73F4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6B48-C13B-496F-9EFC-DA2836AB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DB56-ABC7-410C-8895-335D65D15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opencyc.sourceforge.net/" TargetMode="Externa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1752480"/>
            <a:ext cx="8001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. Онтология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C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cL: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ан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варь онтологии: сущности и поня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$Wal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$Typewr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$InternalRevenue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$Walking 000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ена предикатов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$isa, #$likesAsFri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ена функций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$GovernmentF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$GovernmentOf (#$Canada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мена констан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никальные име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ила напис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лжно отличать понятие от похожих поняти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w-Boat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wTheWeap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wing-BodyM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начимость имен - 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нятие Зеленый цвет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$Green, #$GreenColor, #$Verde, #$Gruen, #$EM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ысл понятия задается утверждениями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rtions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(#$isa #$EMRG #$Col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(#$colorOfObject #$Grass37 #$EMR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 (#$forAll ?L (#$implies (#$ ?L #$Leaf) (#$colorOfObject ?L #$EMRG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начимость имен -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$LittleRedHairedGirlLikedByCharlieBr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$FemaleChi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$hair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$RedHair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$CharlieBr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$likesAsFri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едика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сло аргументов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ate 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ксированное число аргументов, кроме таких предикатов как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$diffe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икат имеет не больше 5 аргумен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ись предиката в утверждениях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c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лжна иметь заявленное число аргумен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едикаты: типы аргумен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яются в описании предика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$arg1Isa, #$arg2I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икат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$residesInDwe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#$isa #$residesInDwelling #$BinaryPredic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#$arg1Isa #$residesInDwelling #$Anim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#$arg2Isa #$residesInDwelling #$ShelterConstru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основном, фиксированное число аргументов (до 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ть функции с произвольным числом аргументов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$PlusF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ипы аргумен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число аргументов не задано, то один тип для всех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$argsI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зультат – тип результата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$resultI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мер описания функци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$arity #$GovernmentFn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#$arg1Isa #$GovernmentF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$GeopoliticalEntit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#$resultIsa #$GovernmentF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$RegionalGovernmen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ремен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вания: 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в утверждении используется одна переменная, то обычно – это одна бук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несколько – то лучше использовать мнемонические име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ормулы и тер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рмы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s)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стан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мен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ула – это список в скобк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стейшая формула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omic Formula)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икат с заполненными аргумент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жная формула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ula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ключает логические связки и квантификато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нтология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at 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ый амбициозный проек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чат в 198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лн. утверждений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common sen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кротеории: пространство, время, причи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тология 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ысяч понятий верхнего уровня – в открытом доступ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.cyc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томные формул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$likesAsFriend #$DouglLenat #$KeithGoolsbe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#$skillCapableOf #$LinusVanPelt #$PlayingAMusicalInstrument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#$colorOfObject ?CAR ?COL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вые две формулы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nd atomic formulas (GAF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огические операто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$not, #$and, #$or, #$imp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$implies =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ило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-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$imp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ая часть антецеден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торая часть консеквен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мер прави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$imp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#$ownerOfObject #$Bike001 #$Fr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#$colorOfObject #$Bike001 #$RedColor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тверждается, что или первый аргумент ложный, или второй аргумент истинн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cL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квантификато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Exists, thereExistsAtLeast, thereExistsAtMost, thereExistsExac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#$forAll ?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#$imp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#$owns #$Fred ?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#$objectFoundLocation ?X #$FredsHouse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мер с квантификатора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$imp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#$isa ?P #$Pers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#$there ExistExactly 2 ?Le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#$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#$isa ?Leg #$Le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#$anatomical Parts ?P ?Leg)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cL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значение истин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чений истинност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otonically true=true with no exce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otonically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Утверждения 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rtion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ждое утверждение включае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ул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кротеор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чение исти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ав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осно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тверждение и значение истинн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вводе утверждени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monotonically true”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исходит проверка на противоречивость с базой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утверждение с переменными, то если находится объект, для которого утверждение не выполняется, то – ошиб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было утверждение об отрицании вводимой формулы для некоторого объекта - ошиб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прав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яет, когда начинается вывод с использованием данного утвержд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вывод начинается в момент помещения утверждения в базу знаний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war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включается при специальном запрос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умолчанию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Fs – forward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а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K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ер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рос об истинности той или иной формулы. Включае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ул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кротеор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ав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сло ответов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d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граничение по време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лубина выв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зработчики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чало 80-х год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glas Lena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адмирал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electronics and Computer Technology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1995 Cycor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#$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#$geographicalSubRegions #$ContinentOfEurope ?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#$headOfStateOf ?X ?Y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ion: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: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: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rence depth: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дукты компан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c Knowledge Serve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поставляется разработчикам по индивидуальным лицензиям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cSecure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следование уязвимости программного обеспечения - продае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cAnswers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абатывает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c Knowledge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c Knowledge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c Inference Eng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cL Representation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 Language Processing Sub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c Semantic Integrated Bus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зь между традиционными структурами хранения (базы данных)  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ledge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c Developer Tool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cAns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antic Knowledge Source Integrator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нератор ответов, использующий базу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ity Auditor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ализ соответствия содержимого баз данных и знаний на соответствие запрос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Profile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настройка на пользовате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 неоднозначной синтаксической интерпрет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 washed the dishes on th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 washed the dishes which are now on th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 did the dishwashing on th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ило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yc knows that dishwashing typically occurs in sinks or dishwashers, not on table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зрешение референ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d went to the store, bought a candy bar with his credit card, walked to the park, and ate i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store", "candy bar", "credit card", and "park"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ило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ks, stores, and credit cards aren't things which are normally eat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Cy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opencyc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ысяч понятий -  60 тысяч сужд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c Inference Eng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c Knowldege Brow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к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ецификация язык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нсляторы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cL-to-Lisp, CycL-to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pper Cyc Ontology (UC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ные структурирующие отнош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$isa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ношение примера к коллекции или класс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(#$isa X 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$genls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а коллекция подмножество другой: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$genls X 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меры и свойства -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$genls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нзитив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$genl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$Dog #$Mammal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$genl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$Mamma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$Vertebr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у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$genl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$Dog #$Vertebr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меры и свойства -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$isa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транзитив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$isa #$Pufy #$Dog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$isa #$Dog #$BiologicalCla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следу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$isa #$Pufy #$BiologicalCla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c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 онтолог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hilosophy, ontology is the study of be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knowledge-based systems, an ontology is that part of the system which specifies what things exist what is true about them. Cyc’s ontology is essentially its whole knowledge ba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йства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a+genls=i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$isa #$Pufy #$Dog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$genl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$Dog #$Mamm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у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$isa #$Pufy #$Mamm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ганизац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op ontolog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каждого понят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бор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$isa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нош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бор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$gen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-inheri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ментарий на английском язы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мер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k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#$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(piece of) skin serves as outer protective and tactile sensory covering for (part of) an animal's body. This is the collection of all pieces of skin. Some examples include #$TheGoldenFleece (representing an entire skin of an animal) and (#$BodyPartFn #$YulBrynner #$Scalp) (representing a small portion of his skin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#$AnimalBodyPartTyp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l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$BiologicalLivingObject #$AnimalBodyPart #$SheetOfSomeStuff #$VibrationThroughAMediumSensor #$TactileSens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ы к лек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c: symbolic 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т статис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00 000 утверждений (1995): факты, прави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c is intended to provide a deep layer of understanding that can be used by other programs (such as domain-specific expert systems) to make them more flex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щие зн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ь – не записать все энциклопедические свед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ние не о конкретных главах государств или столицах, а что значит быть столицей или главой государ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утверждают, что создают единую теорию времени, пространства, вселен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ется набор специализированных микротеорий, которые описывают наиболее частые случа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ие знания нужны: прим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oleon died on St.Helena. Wellington  was greatly suddene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ы знаем, что Веллингтон узнал о смерти Наполеона, Веллингтон пережил Наполеона и т.п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owledge pu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олнить базу миллионами терминов, понятий, фактов, правил, которые необходимы для повседневной жиз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Научить общаться на естественном языке, чтобы увеличивать свою базу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Самообуч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едставление зн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начала предполагалось использовать фрей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 как представлять мнения, ожидания, противоречащие услов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йчас логика предикатов второго порядк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(a1, …an), S(P1,…, P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04:45:53Z</dcterms:created>
  <dc:creator>lll</dc:creator>
  <dc:description/>
  <dc:language>en-US</dc:language>
  <cp:lastModifiedBy>Vladimir</cp:lastModifiedBy>
  <dcterms:modified xsi:type="dcterms:W3CDTF">2006-07-23T07:04:18Z</dcterms:modified>
  <cp:revision>40</cp:revision>
  <dc:subject/>
  <dc:title>Лингвистические онтологии и автоматическая обработка текстов</dc:title>
</cp:coreProperties>
</file>