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078-E089-4B4E-B695-58C7054D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853-30A9-4785-B355-7F6AB8D1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5CC-F098-4C22-ACE5-1612C20E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510-4BBF-438A-BD9B-53EDA923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411F-67C7-4C2C-ACC8-09EDB671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C02D-D0C8-4CA6-B29B-BCDB170D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E2D8-75D1-4E10-9EDA-9FB641D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72CC-12F7-4937-909D-2DADB12B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D13C-742B-4275-A6D7-8EB25A5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4D74-3AE0-475E-9594-C900EB80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9AFC-B5E7-4E6A-A717-6C87952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5C3-45C1-4545-9947-23DB080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8E93-932A-4472-9413-F9AE70DB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3E7D-D3A8-492A-8047-C69A7FE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49EB-1F7E-41AA-8B0B-F7851D31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0BF3-C70A-4AA9-823E-5D8335F9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7666-E9FC-45A9-A83A-5F472030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E5D-7564-46CD-B8F4-E4353DA5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1E8-7E2D-481C-BFA6-078271B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0B0-73C7-4E48-9C1A-A8E9CBC4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1E6-35F8-42B8-AE48-E885D79A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D77-C04A-4480-A705-CDC47DA1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D66-B3B9-4C3A-B200-C340FB0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04F-87A3-473A-90AC-CC14CF16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FB55-08C6-4866-AA6D-C0908B65527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5DE0-F761-4D58-BE29-901ACB84B1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4.1. Онтологии верхнего уровня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: SUMO, Sowa’s ontolog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3860640"/>
            <a:ext cx="7467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O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ggested Upper Merg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тология Джона Сов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wa’s ontolog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ерархия верхних уровней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SUMO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(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пты верхнего 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ноже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C80-37AA-43DE-9820-01C7B2EC8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ксиомы в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M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аксиомы фиксируются на диалек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O-KI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акси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(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bclass-of ?OBJECTTYPE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НепрерывныйОбъект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stance-of ?OBJECT ?OBJECT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part-of ?PART ?OBJEC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stance-of ?PART ?OBJECTTYPE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А2.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ДискретныйОбъект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mentF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НепрерывныйОбъек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F4D-80B3-4A3F-88B9-3DC4BCB86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граничение 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терпретац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понятий при помощи аксио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является экземпляром процесс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гор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существую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ыделение тепл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излучение све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акие, что оба он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являются подпроцессам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ее «тонкие» аксиомы постулируют, что процессы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ыделения тепл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излучения света сопутствую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аждому процесс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09A-206F-4DEB-BBC6-1D091C405F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724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нтология Джона Совы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ohn Sowa’s ontology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)</a:t>
            </a:r>
            <a:br>
              <a:rPr sz="4200"/>
            </a:br>
            <a:r>
              <a:rPr b="0" lang="en-US" sz="2200" spc="-1" strike="noStrike">
                <a:solidFill>
                  <a:srgbClr val="330033"/>
                </a:solidFill>
                <a:latin typeface="Courier New"/>
              </a:rPr>
              <a:t>http://</a:t>
            </a:r>
            <a:r>
              <a:rPr b="0" lang="ru-RU" sz="2200" spc="-1" strike="noStrike">
                <a:solidFill>
                  <a:srgbClr val="330033"/>
                </a:solidFill>
                <a:latin typeface="Courier New"/>
              </a:rPr>
              <a:t>www.jfsowa.com/ontology/ 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5400" y="260280"/>
            <a:ext cx="1536480" cy="115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622-141A-488C-ADF7-F99F1C046C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сточни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ами при создании онтологии были книги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оги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илософ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усственному интеллек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нгвисти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D59-477D-41D7-B309-D137324069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инципы онтологического моделирования (по Сов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тология основана не на жесткой иерархии, а на общем каркасе, описывающе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ли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ерархия может быть сгенерирована в соответствии с этим каркас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нцепты задаются выбором подходящего набора различий, проведением грани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D8F-D668-49E0-8A35-4C15BC0E53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ырожденные концепты онтологии Сов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включающее все индивиды онтологии (не удовлетворяет ни одном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лич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урд”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не включающее ни один индивид онтологии (удовлетворяет всем возможным различиям, в том числе и противоположным, поэтому множество пус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2DD-B6EB-49E9-83DC-E799FCEA2B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различия и категори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693432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ли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бстрактный vs. Физиче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тинуальный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сходящ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зависимый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s. Относительный vs. Опосредова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F18-F0E7-427B-8597-13DE94609B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различия и категори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ия (категор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рип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ия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ас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ту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0FE-02F1-4B92-AD13-881183225B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«Бриллиант» Сов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C6F-326D-440B-837D-72234A62AC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SUMO</a:t>
            </a:r>
            <a:br>
              <a:rPr sz="4000"/>
            </a:b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http://ontology.teknowledge.com/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96160" y="343080"/>
            <a:ext cx="1143000" cy="107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2C4-5E73-44F4-A971-2F75BD05ED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опросы к лек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724-86C5-456F-9E47-C7C7CA865D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раткая характерист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а в рамка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й группы         IEEE SUO (IEEE Standard Upper Ontology Working Group) и Teknowl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претендует на звание стандарта для онтологий верхнего уро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ерархия фундаментальных понятий (около 1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ор аксиом (около 4 тыс.), определяющих интерпретацию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FD5-B67A-441C-9704-57EE04051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азначени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676520"/>
            <a:ext cx="6966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интероперабельности        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ий логическ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A85-73B0-4E59-A94B-C044045194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фера охва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е виды объектов и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бстракции (теория множеств, атрибуты, отнош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ые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и и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енты и на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а и единицы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E12-916E-479F-A9F0-2B24F226A8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UMO — «каноническая» онтология верхнего уровн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льшое число концептов и акс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сная иерархия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диняет несколько проектов (общедоступных ОВ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4F4-7683-4C6B-90C7-B5B7B4927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имущества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UM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возможность трансляции на любой из языков представления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онтология среднего уровня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гладко интегрированная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ображение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580-E410-424D-87DB-1826BB2EEC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ерархия верхних уровней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UMO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03E-8369-40EF-8B13-2C04E3C592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ерархия верхних уровней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SUMO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с онтологи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c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ерческий проект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O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крытый общедоступный ресур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O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 менее разветвленную иерархию понятий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на верхнем уровн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yc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16 понят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A15-CA49-4BBB-8C4D-CB84016BDE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0:10:36Z</dcterms:created>
  <dc:creator>Мирослав</dc:creator>
  <dc:description/>
  <dc:language>en-US</dc:language>
  <cp:lastModifiedBy>Vladimir</cp:lastModifiedBy>
  <dcterms:modified xsi:type="dcterms:W3CDTF">2006-07-23T07:04:22Z</dcterms:modified>
  <cp:revision>62</cp:revision>
  <dc:subject/>
  <dc:title>Редакторы онтологий</dc:title>
</cp:coreProperties>
</file>