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8C0-04E6-4A64-A36D-4A8D493D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07D-8939-43DA-894D-6EC70ABA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23E-AED8-4494-93A4-1DD6DA9B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D1B-B21D-4CBC-A387-4784F489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C9B0-D6EC-4257-B1C2-B5F88B0E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4D76-A4ED-4779-A08A-0D6291DB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0077-1EEF-452B-85E3-9E6C2523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FC04-B7D0-40EE-83C2-4DF58802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74A1-F499-46B1-8769-1D82ED6B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FE4C-8799-4CF9-B562-18B82123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BCC1-0DC1-41C1-90FC-E8431D7E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CFF7-165E-4893-B7B8-0A55A17F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28AB-EA62-4E49-BE8D-A1C554F1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BBAE-F476-45B5-B853-FFBAF4DB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C027-5C81-4793-ABFA-D4F7BC72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3D65-3E9D-4FB3-9651-E0922875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9719-92FF-4E5B-9DF0-BFFEFD66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F77-E22D-4753-94C2-A34D1A5C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2F60-208D-403D-8878-CC71C354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6B2C-788D-48E9-8B9C-CBDD3E79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99F-511E-41AE-8C94-5362D23B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C6C-880B-4839-910B-D4324D3F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411A-8CFE-4F41-BEAE-6747274E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90F-06FA-4A44-9DE2-82117C40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32E0-E01C-4942-9F37-8266D302C4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2E6B-7307-4184-97A8-B8085B7B37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3.2. </a:t>
            </a: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Назначение онтологий</a:t>
            </a: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.</a:t>
            </a:r>
            <a:br>
              <a:rPr sz="4400"/>
            </a:b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Интеграция разнородных источников данных. SemanticWeb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42640" y="3860640"/>
            <a:ext cx="7467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грация разнородных источников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тологии как ча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ntic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ек спецификаций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emantic Web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ли «слоёный пирог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ма Бернерса-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sw-stack" descr=""/>
          <p:cNvPicPr/>
          <p:nvPr/>
        </p:nvPicPr>
        <p:blipFill>
          <a:blip r:embed="rId1"/>
          <a:stretch/>
        </p:blipFill>
        <p:spPr>
          <a:xfrm>
            <a:off x="1550880" y="1585800"/>
            <a:ext cx="622152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23880" y="1562040"/>
            <a:ext cx="6248520" cy="5295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есто онтологий в «слоёном пироге»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emantic Web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781680" y="5334120"/>
            <a:ext cx="990720" cy="457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1143000"/>
            <a:ext cx="990720" cy="457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ак это работает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ontologi" descr=""/>
          <p:cNvPicPr/>
          <p:nvPr/>
        </p:nvPicPr>
        <p:blipFill>
          <a:blip r:embed="rId1"/>
          <a:stretch/>
        </p:blipFill>
        <p:spPr>
          <a:xfrm>
            <a:off x="0" y="1909800"/>
            <a:ext cx="5867280" cy="4948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2920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гент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5372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ен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1676520"/>
            <a:ext cx="1523880" cy="358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800600" y="5638320"/>
            <a:ext cx="198108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419720" y="160020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4724280"/>
            <a:ext cx="144756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295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толог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0120" y="457200"/>
          <a:ext cx="1323720" cy="25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457200"/>
                    <a:ext cx="13237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 flipH="1" flipV="1">
            <a:off x="6171840" y="1295280"/>
            <a:ext cx="1600200" cy="15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ории всё выглядит крас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альности даже существуют агенты, использующие метаданные, словари терминов. Такие агенты способны бронировать авиабилеты, подбирать товары по низкой цене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, можно ли их считать часть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и жестко связаны со структурой порта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аданные «вшиты» в их архитектур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шибкой было бы назвать любую программу, обрабатывающу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W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ени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ё равно, что называть любую программу на ПРОЛОГе приложением для 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 работает ли это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опросы к лек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числите основные элемент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виды формул существуют в дескриптивной логике и как они связаны с онтология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ем на Ваш взгляд проявляется «интеллектуальность» агент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ntic We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Arial"/>
              </a:rPr>
              <a:t>Интеграция разнородных источников данных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ведение в дескриптивную логику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(DL).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Ее связь с онтологиям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множество логики предикатов первого порядк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rder Logic – FO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ы бывают 2-х 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Box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описывают концепты, роли (т.е. саму онтологию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ox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описывают индивидуальные объекты (т.е. экземпляры классов онтологии, базу знаний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6629400" cy="38653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д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щ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нош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трибу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ме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R-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Модель данных и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DL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(1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R-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Модель данных и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DL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(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7925040" cy="2060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19280" y="1981080"/>
            <a:ext cx="76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форма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хем в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DL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зы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DL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и запросы к базам данны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ак язык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Q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1.recip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upplies s1, supplies 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1.name = ‘intel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2.name = ‘intel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1.material = s2.mate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1.date != s2.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L(QL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1,d1,d2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plies(‘intel’,r,m,d1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upplies(‘intel’,r,m,d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езультат помещается в свободную переменную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Интеграция данны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ни интегра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цептуальный уровен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нцептуальная схема уровня предприятия (онтология верхнего уровня, онтология предметной области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нцептуальная схема источника данных (прикладная онтология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нцептуальная схема домена (база знаний -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Box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огический уровен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Arial"/>
              </a:rPr>
              <a:t>Онтологии как часть </a:t>
            </a:r>
            <a:r>
              <a:rPr b="1" lang="en-US" sz="4200" spc="-1" strike="noStrike">
                <a:solidFill>
                  <a:srgbClr val="330033"/>
                </a:solidFill>
                <a:latin typeface="Arial"/>
              </a:rPr>
              <a:t>Semantic Web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w3c-logo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2471760" cy="1199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124080" y="3505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w3.org/2001/sw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Berners-Le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создатель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расширение существующей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в которой информации придается четко определенно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начени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зволяющее людям и компьютерам сотрудничать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l Tripp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«Нечто имеет семантику, если может обрабатываться и пониматься компьютером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тог подводит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chael Uschold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точного определе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т, но ее основная черта – наличие семантики, доступной для обработки машинами (программными агентами Сети) при взаимодействии друг с друг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то такое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emantic Web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0:10:36Z</dcterms:created>
  <dc:creator>Мирослав</dc:creator>
  <dc:description/>
  <dc:language>en-US</dc:language>
  <cp:lastModifiedBy>Vladimir</cp:lastModifiedBy>
  <dcterms:modified xsi:type="dcterms:W3CDTF">2006-07-23T06:58:20Z</dcterms:modified>
  <cp:revision>118</cp:revision>
  <dc:subject/>
  <dc:title>Редакторы онтологий</dc:title>
</cp:coreProperties>
</file>