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42CF-8E33-4BDB-A1B6-7A5658382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5772-A303-43C8-981B-B7938DCA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0F8A-2649-4E03-9277-0C902BEC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0228-D30E-43CA-BB2C-24E14070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181E-C9FE-45DC-BE81-34E80BDD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17B4-F838-400E-B6A3-0BA0B821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016C-AD89-4F16-9923-6A63E61E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1BC1-691F-4042-9D30-981990A0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6FA0-2BB1-4137-8ACC-EE1C3379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9D01-D728-46A5-A7A1-4569A0E7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5426-75AD-4BEC-9EF0-44DADBD9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198C-47E7-4004-A9C5-74FEB9DC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720E-CAAC-485E-970B-C817CEEE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0F98-F169-49C1-90F6-8E12836F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FBFB-E391-4A15-A59A-2B6FB2EE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6FA8-7440-45EE-AD02-2520B986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0383-B034-4F69-B6EC-99DB3BFE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0709-E5C1-4140-8310-BBA7B940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FCD6-85E3-4A0D-939D-3E5A3EE4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9A6E-2CF0-4460-A234-2B5818D0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2461-6798-4C6F-AEDC-25B8FEF2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298A-14DE-476D-8512-F3BFC04E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87A4-EE2E-4D01-A30D-DEF8A2D3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A1C7-83F8-4C6B-B9DF-4C7B7612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C894-F9ED-49A0-BD41-5640F1282B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86B2-0B10-4D08-AB91-7D658DA620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4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3.1. Назначение онтологий. Информационный поиск.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уществующие подходы к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ешению задачи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DR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ботка документов и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дексирование по ключевым слова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воичный поис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нжированны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ис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vector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ace mode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роятностная мод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Индексирование по ключевым словам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ый поиск начинается не с написания запроса, а с индексирова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у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ому документу сопоставляется П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мер: документ – книга, ПОД – алфавитный указатель в конце книг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нвертированный словарь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762120"/>
            <a:ext cx="8610840" cy="18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ждая запись содерж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ермин, количество документов коллекции, в которых термин появился, частоту появления в документах коллекции, ссылку на структуру, описывающую появление термина в каждом из докумен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88800" y="2744640"/>
          <a:ext cx="4411800" cy="155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2744640"/>
                    <a:ext cx="4411800" cy="15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111640" y="3124080"/>
          <a:ext cx="4032360" cy="755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1640" y="3124080"/>
                    <a:ext cx="40323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5059440" y="3962520"/>
          <a:ext cx="4084560" cy="4888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59440" y="3962520"/>
                    <a:ext cx="408456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148360" y="4572000"/>
          <a:ext cx="3995640" cy="4698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8360" y="4572000"/>
                    <a:ext cx="39956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724280" y="5638680"/>
          <a:ext cx="4419720" cy="4986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5638680"/>
                    <a:ext cx="441972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724280" y="6319800"/>
          <a:ext cx="4237200" cy="49212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24280" y="6319800"/>
                    <a:ext cx="42372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4343400" y="3124080"/>
            <a:ext cx="76212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562360" y="3581280"/>
            <a:ext cx="335268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486040" y="4191120"/>
            <a:ext cx="34290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3429000"/>
            <a:ext cx="533520" cy="22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870080" y="5943600"/>
            <a:ext cx="3740040" cy="376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Двоичный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поиск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 – формула. Термины и логические связк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, OR, NO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 можно рассматривать как двоичную мас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 наложения маски: каждому операнду сопоставляется подмножество документов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ем над множествами выполняются соответствующие операции (пересечение, объединение, дополн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вно 2 значения релевантности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, fal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нжированный поиск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(vector space model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и ПОЗ представляют собой векторы в пространстве терми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я элементов векторов задаются некоторой функц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иболее популярна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f*id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левантность – близость векторов ПОД и ПОЗ в пространстве терминов (косинус угла между ни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Вероятностная модель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ана на вычислении вероятности того, что документ релевантен запро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ается ряд допущен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кумент либо релевантен запросу, либо н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рмины распределены по документам коллекции независим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левантность одного документа не зависит от друг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целом качество поиска не лучше, чем 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ctor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Оценка качества поисковых систем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761760"/>
            <a:ext cx="83055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ферен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F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ые параметры качества по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нот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, 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– доля релевантных документов в выборке, по отношению ко всем релевантным документам колл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ч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recision, P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доля релевантных документов в выборке, по отношению ко всем документам в выбор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84120" y="3129120"/>
          <a:ext cx="8435880" cy="139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3129120"/>
                    <a:ext cx="843588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85800" y="4419720"/>
            <a:ext cx="530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число документов в колле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релевантных документов в колле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число документов в выбор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число релевантных документов в выбор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57150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 = A / 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5715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= A /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ак улучшить поиск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аз от идеи независимости («ортогональности») терминов: понятия могут быть связаны в семантические сети (представлены как тезаурусы или онтолог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нтологий и тезауру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сширение запро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было «бегемот»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стало «бегемот, гиппопотам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достатки подхода: «поисковый шум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опросы к лек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числите традиционные подходы к решению задач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м критерий полноты отличается от критерия точ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овите способы улучшения поиска при помощи тезаурусов и онтолог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90476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Информационный поиск</a:t>
            </a:r>
            <a:br>
              <a:rPr sz="4400"/>
            </a:br>
            <a:r>
              <a:rPr b="1" lang="en-US" sz="4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иск информации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(</a:t>
            </a: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Information Retrieval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)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 задача извлечения документов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(</a:t>
            </a: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Document Retrieval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ка задачи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DR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057400"/>
            <a:ext cx="77724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ано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Коллекция документов на естественном языке - ЕЯ (одном или нескольких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Запрос на Е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Требу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рать из коллекции документы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левант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просу и только их. И, возможно, упорядочить выборку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 релевант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Возникли вопросы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уда взялись докумен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м отличается естественный язык от искусственн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то и как формулирует запро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такое релевантн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веты – далее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понятия (1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лекция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ножество текстов, описывающих некоторую область знаний и собранных вместе (коллекция текстов по гидродинамик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окальные и глобальные коллек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кстремальный случай – коллекция документов, доступных по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область знаний?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понятия (2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тественный язы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спользуется для общения люд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ногознач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ыл и останется основным языком представления знаний челове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кусственный язы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отличие от ЕЯ, сконструирован целенаправлен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ак правило, не многозначе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понятия (3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формационная потреб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нутреннее состояние психики челове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чина возникновения: несоответствие между тем, что есть и тем, что хотелось бы иметь (в плане информаци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ыражается на ЕЯ словами «Хотелось бы знать...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еализуется в виде поискового запроса по коллекции докум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понятия (4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прос к поисковой системе может быть задан на ЕЯ, но чаще задается на некотором 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обычный вопрос: «Как проехать в аэропорт?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запрос к Яндекс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, Google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: «аэропорт проезд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исковик не способен понимать ЕЯ.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н способен обрабатывать только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оисковые образ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внутренние представления запросов (ПОЗ) и документов (ПОД) на информационно-поисковом язы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понятия (5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лев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ра близости документа и запро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жет определяться человеком (экспертом), но обычно вычисляется поисковой машин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левантные запросу документы формируют релевантную выборку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.. но удовлетворяют ли они информационную потребность пользовател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 сожалению, удовлетворение информационной потребности это – не задача, а проблема (трудно формализовать понятие «инф. потребность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0:10:36Z</dcterms:created>
  <dc:creator>Мирослав</dc:creator>
  <dc:description/>
  <dc:language>en-US</dc:language>
  <cp:lastModifiedBy>Vladimir</cp:lastModifiedBy>
  <dcterms:modified xsi:type="dcterms:W3CDTF">2006-07-23T06:49:45Z</dcterms:modified>
  <cp:revision>121</cp:revision>
  <dc:subject/>
  <dc:title>Редакторы онтологий</dc:title>
</cp:coreProperties>
</file>