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9744C-1BE2-4EA3-9B17-240629E91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0F02B-435D-4853-88A1-1A5A67EBD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4826D-C811-4922-B5F0-9A2A87347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BF760-5D8A-4A2D-BBF7-35A0E4E81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76DA3-A946-417E-A20B-F01D72C37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17B29-7DE1-49C4-819C-2BF7E0C69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2ECE3-C30B-4E93-A5A6-F99648638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581F6-F9A3-4566-9733-CE589334D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18877-F1F8-4733-B54E-D80A55B95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8F0C5-5773-410D-85FE-3869C2581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ACF4F-0691-4102-B98B-A041F4FC0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65DB3-E891-4D30-A1B7-6F284A290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8EDD0-B8D1-4B12-AF97-883FFC482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E8BEC-FE88-483B-8A59-2D9B6DE4B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47245-B7A7-4748-8E97-D82642E5F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231F2-297C-4689-8688-96BCDDA55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68DFA-96E8-45CF-B869-A3740D1E9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885C5-99CD-40B5-8242-30DEFEC05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0311E-BBC1-4884-B6D7-B21C986F7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A59A7-C302-4008-96BA-8B63B82FC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10939-5E5C-4B59-8A0E-A76FAD703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E1B35-8852-4543-9FD8-7918ABF63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753B6-F2D4-421D-9E82-4A585E06B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98F50-43F5-4124-9E93-EC2F3B83C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C9628-46C2-4B0B-8270-F2BBDB686E9B}" type="slidenum"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9EA8C-1B3C-43EB-B6EB-BF79962C224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ontolingua.stanford.edu/" TargetMode="External"/><Relationship Id="rId2" Type="http://schemas.openxmlformats.org/officeDocument/2006/relationships/hyperlink" Target="http://www.w3.org/TR/REC-rdf-syntax/" TargetMode="External"/><Relationship Id="rId3" Type="http://schemas.openxmlformats.org/officeDocument/2006/relationships/hyperlink" Target="http://www.w3.org/1999/02/22-rdf-syntax-ns" TargetMode="External"/><Relationship Id="rId4" Type="http://schemas.openxmlformats.org/officeDocument/2006/relationships/hyperlink" Target="http://www.w3.org/2000/01/rdf-schema" TargetMode="External"/><Relationship Id="rId5" Type="http://schemas.openxmlformats.org/officeDocument/2006/relationships/hyperlink" Target="http://www.ontoknowledge.org/oil/rdf-schema/2000/11/10-oil-standard" TargetMode="External"/><Relationship Id="rId6" Type="http://schemas.openxmlformats.org/officeDocument/2006/relationships/hyperlink" Target="http://www.daml.org/2001/03/daml+oil" TargetMode="External"/><Relationship Id="rId7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8960" y="1294920"/>
            <a:ext cx="693396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33"/>
                </a:solidFill>
                <a:latin typeface="Times New Roman"/>
              </a:rPr>
              <a:t>2.1. </a:t>
            </a:r>
            <a:r>
              <a:rPr b="1" lang="ru-RU" sz="3600" spc="-1" strike="noStrike">
                <a:solidFill>
                  <a:srgbClr val="330033"/>
                </a:solidFill>
                <a:latin typeface="Times New Roman"/>
              </a:rPr>
              <a:t>Типы онтологий: верхнего уровня, предметных областей, прикладных онтологий. Лексические онтологии.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Характеристики онтологий предметных областей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8487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ущественные отличия от ОВУ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-419040">
              <a:lnSpc>
                <a:spcPct val="100000"/>
              </a:lnSpc>
              <a:spcBef>
                <a:spcPts val="550"/>
              </a:spcBef>
              <a:spcAft>
                <a:spcPts val="601"/>
              </a:spcAft>
              <a:buClr>
                <a:srgbClr val="cccc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Охват конкретной области знаний (авиация, медицина, культура)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-419040">
              <a:lnSpc>
                <a:spcPct val="100000"/>
              </a:lnSpc>
              <a:spcBef>
                <a:spcPts val="550"/>
              </a:spcBef>
              <a:spcAft>
                <a:spcPts val="601"/>
              </a:spcAft>
              <a:buClr>
                <a:srgbClr val="cccc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Круг решаемых задач и вопросов, на которые онтология отвечает, ограничен выбранной областью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-419040">
              <a:lnSpc>
                <a:spcPct val="100000"/>
              </a:lnSpc>
              <a:spcBef>
                <a:spcPts val="550"/>
              </a:spcBef>
              <a:spcAft>
                <a:spcPts val="601"/>
              </a:spcAft>
              <a:buClr>
                <a:srgbClr val="cccc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Больший по сравнению с ОВУ объем онтологии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-419040">
              <a:lnSpc>
                <a:spcPct val="100000"/>
              </a:lnSpc>
              <a:spcBef>
                <a:spcPts val="550"/>
              </a:spcBef>
              <a:spcAft>
                <a:spcPts val="601"/>
              </a:spcAft>
              <a:buClr>
                <a:srgbClr val="cccc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Наличие отношений специфичных для конкретной области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вторное использование только в рамках предметной обла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8CF9D-D41F-4AEC-8E7B-05A1509C117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Онтологии предметных областей: </a:t>
            </a:r>
            <a:r>
              <a:rPr b="0" i="1" lang="en-US" sz="3400" spc="-1" strike="noStrike">
                <a:solidFill>
                  <a:srgbClr val="000000"/>
                </a:solidFill>
                <a:latin typeface="Times New Roman"/>
              </a:rPr>
              <a:t>Онтологии электронной коммерции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3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7924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The United Nations Standard Products 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Services Codes (UNSPSC)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http://www.unspsc.org/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NAICS (North American Industry Classification System)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http://www.census.gov/epcd/www/naics .htm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SCTG (Standard Classification of Transported Goods)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http://www.statcan.ca/english/Subjects/Standard/sctg/sctg-menu.ht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E-cl@ss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http://www.eclass.de/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RosettaNet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http://www.rosettanet.or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33B31-B20F-41CA-A06A-567125149EB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Онтологии предметных областей: </a:t>
            </a:r>
            <a:r>
              <a:rPr b="0" i="1" lang="en-US" sz="3400" spc="-1" strike="noStrike">
                <a:solidFill>
                  <a:srgbClr val="000000"/>
                </a:solidFill>
                <a:latin typeface="Times New Roman"/>
              </a:rPr>
              <a:t>Онтологии электронной коммерции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34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0" y="1523880"/>
            <a:ext cx="9144000" cy="5062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E3337-9E89-4280-9181-9D4098CC935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Характеристики прикладных онтологий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правленность на решение конкретной задачи, обеспечение работы некоторого приложени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руг вопросов, на которые онтология отвеча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Задается перед ее созданием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Влияет на процесс концептуализаци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Используется для проверки “компетентности” онтологи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9B898-B66C-4DAE-87AC-7B6D3CE02FF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Лингвистические онтологии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WordNet </a:t>
            </a:r>
            <a:r>
              <a:rPr b="0" lang="ru-RU" sz="2400" spc="-1" strike="noStrike">
                <a:solidFill>
                  <a:srgbClr val="990033"/>
                </a:solidFill>
                <a:latin typeface="Times New Roman"/>
              </a:rPr>
              <a:t>(http://www.hum. uva.nl/~ewn/gwa.ht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EuroWordNet </a:t>
            </a:r>
            <a:r>
              <a:rPr b="0" lang="ru-RU" sz="2400" spc="-1" strike="noStrike">
                <a:solidFill>
                  <a:srgbClr val="990033"/>
                </a:solidFill>
                <a:latin typeface="Times New Roman"/>
              </a:rPr>
              <a:t>(http://www.hum.uva.nl/~ewn/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The Generalized Upper Model </a:t>
            </a:r>
            <a:r>
              <a:rPr b="0" lang="ru-RU" sz="2400" spc="-1" strike="noStrike">
                <a:solidFill>
                  <a:srgbClr val="990033"/>
                </a:solidFill>
                <a:latin typeface="Times New Roman"/>
              </a:rPr>
              <a:t>(http://www.darmstadt.gmd.de/publish/komet/gen-um/newUM.html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The Mikrokosmos ontology </a:t>
            </a:r>
            <a:r>
              <a:rPr b="0" lang="ru-RU" sz="2400" spc="-1" strike="noStrike">
                <a:solidFill>
                  <a:srgbClr val="990033"/>
                </a:solidFill>
                <a:latin typeface="Times New Roman"/>
              </a:rPr>
              <a:t>(http://crl.nmsu.edu/mikro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[user and password are required]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SENSUS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ru-RU" sz="2400" spc="-1" strike="noStrike">
                <a:solidFill>
                  <a:srgbClr val="990033"/>
                </a:solidFill>
                <a:latin typeface="Times New Roman"/>
              </a:rPr>
              <a:t>http://www.isi.edu/natural-language/projects/ONTOLOGIES.html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42A5F-E047-4AC5-8A7C-8F636C279D5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Характеристики лексических онтологий (1)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8487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тличительное свойство: фиксация в одном ресурсе (лексикализованных) понятий (слов) вместе с их языковыми свойствам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руг задач тесно связан с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LP (Natural Language Processin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E3D5B-638A-411A-BEC6-AE03EE86735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Характеристики лексических онтологий (2)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О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новной набор отношений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buClr>
                <a:srgbClr val="cccc99"/>
              </a:buClr>
              <a:buSzPct val="75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Синонимия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buClr>
                <a:srgbClr val="cccc99"/>
              </a:buClr>
              <a:buSzPct val="75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Гипонимия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buClr>
                <a:srgbClr val="cccc99"/>
              </a:buClr>
              <a:buSzPct val="75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Меронимия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Большие и сверхбольшие тезаурусы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buClr>
                <a:srgbClr val="cccc99"/>
              </a:buClr>
              <a:buSzPct val="75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WordNet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buClr>
                <a:srgbClr val="cccc99"/>
              </a:buClr>
              <a:buSzPct val="75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Тезаурус по общественно-политической тематике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E2B43-3B94-414D-8753-EF28FB13115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Вопросы к лекции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Чем отличаются онтологии верхнего уровня от онтологий предметной област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Чем отличаются онтологии предметной области от прикладных онтологий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Перечислите основные характеристики лексических онтолог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C3B7C-6C85-47D6-9CEA-7CAF3B9F15F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3733920" cy="29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Типы </a:t>
            </a:r>
            <a:br>
              <a:rPr sz="4200"/>
            </a:b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онтологий </a:t>
            </a:r>
            <a:br>
              <a:rPr sz="4200"/>
            </a:b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по </a:t>
            </a:r>
            <a:br>
              <a:rPr sz="4200"/>
            </a:b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О. Лассилла, </a:t>
            </a:r>
            <a:br>
              <a:rPr sz="4200"/>
            </a:b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Д. МакГинесс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929200" y="255600"/>
            <a:ext cx="0" cy="61707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rot="5400000">
            <a:off x="5803920" y="192240"/>
            <a:ext cx="249120" cy="249120"/>
          </a:xfrm>
          <a:prstGeom prst="ellipse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rot="5400000">
            <a:off x="5803560" y="690480"/>
            <a:ext cx="249480" cy="249120"/>
          </a:xfrm>
          <a:prstGeom prst="ellipse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rot="5400000">
            <a:off x="5803560" y="1314360"/>
            <a:ext cx="249480" cy="249120"/>
          </a:xfrm>
          <a:prstGeom prst="ellipse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rot="5400000">
            <a:off x="5803560" y="1938240"/>
            <a:ext cx="249480" cy="249120"/>
          </a:xfrm>
          <a:prstGeom prst="ellipse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rot="5400000">
            <a:off x="5803560" y="3309840"/>
            <a:ext cx="249480" cy="249120"/>
          </a:xfrm>
          <a:prstGeom prst="ellipse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rot="5400000">
            <a:off x="5803920" y="3932280"/>
            <a:ext cx="249120" cy="249120"/>
          </a:xfrm>
          <a:prstGeom prst="ellipse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5803920" y="4494240"/>
            <a:ext cx="249120" cy="249120"/>
          </a:xfrm>
          <a:prstGeom prst="ellipse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rot="5400000">
            <a:off x="5803920" y="5180040"/>
            <a:ext cx="249120" cy="249120"/>
          </a:xfrm>
          <a:prstGeom prst="ellipse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rot="5400000">
            <a:off x="5803200" y="5803200"/>
            <a:ext cx="250560" cy="249120"/>
          </a:xfrm>
          <a:prstGeom prst="ellipse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rot="5400000">
            <a:off x="5803920" y="6302520"/>
            <a:ext cx="249120" cy="249120"/>
          </a:xfrm>
          <a:prstGeom prst="ellipse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rot="16200000">
            <a:off x="6580800" y="-357840"/>
            <a:ext cx="729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талоги на основе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16200000">
            <a:off x="5214600" y="-95400"/>
            <a:ext cx="729000" cy="18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ловари термин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16200000">
            <a:off x="7038720" y="17280"/>
            <a:ext cx="729000" cy="269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езаурусы отношение «Выше-Ниже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6200000">
            <a:off x="4452840" y="1171440"/>
            <a:ext cx="729000" cy="19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еформальные таксоном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rot="16200000">
            <a:off x="6717960" y="2582640"/>
            <a:ext cx="729000" cy="193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Формальные таксоном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4362480" y="2062080"/>
            <a:ext cx="2998800" cy="14209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rot="16200000">
            <a:off x="4561560" y="3294720"/>
            <a:ext cx="729000" cy="16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Формальные экземпля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rot="16200000">
            <a:off x="7034760" y="3413520"/>
            <a:ext cx="729000" cy="24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войства на основе фрейм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rot="16200000">
            <a:off x="4730400" y="4133880"/>
            <a:ext cx="729000" cy="26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граничения на знач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rot="16200000">
            <a:off x="7104600" y="4499640"/>
            <a:ext cx="729000" cy="27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бщие логические Огранич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rot="16200000">
            <a:off x="4016880" y="4928400"/>
            <a:ext cx="729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изъюнктивные понятия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братные свой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B7816-3978-4D12-A46F-48285A72D1E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2666880" y="54864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4343400"/>
            <a:ext cx="3406680" cy="1168560"/>
          </a:xfrm>
          <a:prstGeom prst="ellipse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816120" y="4627440"/>
            <a:ext cx="358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нтологии предметных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бласт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914400" y="5715000"/>
            <a:ext cx="3580920" cy="1015560"/>
            <a:chOff x="914400" y="5715000"/>
            <a:chExt cx="3580920" cy="1015560"/>
          </a:xfrm>
        </p:grpSpPr>
        <p:sp>
          <p:nvSpPr>
            <p:cNvPr id="125" name=""/>
            <p:cNvSpPr/>
            <p:nvPr/>
          </p:nvSpPr>
          <p:spPr>
            <a:xfrm>
              <a:off x="1013760" y="5715000"/>
              <a:ext cx="3282480" cy="1015560"/>
            </a:xfrm>
            <a:prstGeom prst="ellipse">
              <a:avLst/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914400" y="5883840"/>
              <a:ext cx="35809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прикладные 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онтологи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762120" y="1600200"/>
            <a:ext cx="3504960" cy="1143000"/>
            <a:chOff x="762120" y="1600200"/>
            <a:chExt cx="3504960" cy="1143000"/>
          </a:xfrm>
        </p:grpSpPr>
        <p:sp>
          <p:nvSpPr>
            <p:cNvPr id="128" name=""/>
            <p:cNvSpPr/>
            <p:nvPr/>
          </p:nvSpPr>
          <p:spPr>
            <a:xfrm>
              <a:off x="870120" y="1600200"/>
              <a:ext cx="3213000" cy="1143000"/>
            </a:xfrm>
            <a:prstGeom prst="ellipse">
              <a:avLst/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62120" y="1711440"/>
              <a:ext cx="35049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онтологии 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представлени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" name=""/>
          <p:cNvSpPr/>
          <p:nvPr/>
        </p:nvSpPr>
        <p:spPr>
          <a:xfrm>
            <a:off x="4495680" y="1752480"/>
            <a:ext cx="3581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онцептуализация формализмов представления зна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495680" y="3048120"/>
            <a:ext cx="358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вторно используемая в разных предметных областя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516560" y="4572000"/>
            <a:ext cx="358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вторно используемая внутри одной предметной обла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579920" y="5867280"/>
            <a:ext cx="358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ет возможности повторно использова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514600" y="27432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590920" y="41148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762120" y="3048120"/>
            <a:ext cx="3580920" cy="1091880"/>
            <a:chOff x="762120" y="3048120"/>
            <a:chExt cx="3580920" cy="1091880"/>
          </a:xfrm>
        </p:grpSpPr>
        <p:sp>
          <p:nvSpPr>
            <p:cNvPr id="137" name=""/>
            <p:cNvSpPr/>
            <p:nvPr/>
          </p:nvSpPr>
          <p:spPr>
            <a:xfrm>
              <a:off x="861480" y="3048120"/>
              <a:ext cx="3282480" cy="1091880"/>
            </a:xfrm>
            <a:prstGeom prst="ellipse">
              <a:avLst/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62120" y="3229920"/>
              <a:ext cx="35809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онтологии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br>
                <a:rPr sz="2400"/>
              </a:b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верхнего уровн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040" y="277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Классификация по цели создания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EA1AC-FCD0-448E-96FE-07A175E2A82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Классификация по содержимому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762120" y="1752480"/>
            <a:ext cx="3504960" cy="1143000"/>
            <a:chOff x="762120" y="1752480"/>
            <a:chExt cx="3504960" cy="1143000"/>
          </a:xfrm>
        </p:grpSpPr>
        <p:sp>
          <p:nvSpPr>
            <p:cNvPr id="142" name=""/>
            <p:cNvSpPr/>
            <p:nvPr/>
          </p:nvSpPr>
          <p:spPr>
            <a:xfrm>
              <a:off x="870120" y="1752480"/>
              <a:ext cx="3213000" cy="1143000"/>
            </a:xfrm>
            <a:prstGeom prst="ellipse">
              <a:avLst/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62120" y="1863720"/>
              <a:ext cx="35049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общие 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онтологии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914400" y="4952880"/>
            <a:ext cx="3504960" cy="1143000"/>
            <a:chOff x="914400" y="4952880"/>
            <a:chExt cx="3504960" cy="1143000"/>
          </a:xfrm>
        </p:grpSpPr>
        <p:sp>
          <p:nvSpPr>
            <p:cNvPr id="145" name=""/>
            <p:cNvSpPr/>
            <p:nvPr/>
          </p:nvSpPr>
          <p:spPr>
            <a:xfrm>
              <a:off x="1022400" y="4952880"/>
              <a:ext cx="3213000" cy="1143000"/>
            </a:xfrm>
            <a:prstGeom prst="ellipse">
              <a:avLst/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914400" y="5064120"/>
              <a:ext cx="35049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предметные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онтологии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762120" y="3276720"/>
            <a:ext cx="3580920" cy="1218600"/>
            <a:chOff x="762120" y="3276720"/>
            <a:chExt cx="3580920" cy="1218600"/>
          </a:xfrm>
        </p:grpSpPr>
        <p:sp>
          <p:nvSpPr>
            <p:cNvPr id="148" name=""/>
            <p:cNvSpPr/>
            <p:nvPr/>
          </p:nvSpPr>
          <p:spPr>
            <a:xfrm>
              <a:off x="861480" y="3276720"/>
              <a:ext cx="3282480" cy="1218600"/>
            </a:xfrm>
            <a:prstGeom prst="ellipse">
              <a:avLst/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62120" y="3479400"/>
              <a:ext cx="35809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онтологии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задач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"/>
          <p:cNvSpPr/>
          <p:nvPr/>
        </p:nvSpPr>
        <p:spPr>
          <a:xfrm>
            <a:off x="4495680" y="167652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ущности, События, Пространство, Время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572000" y="3352680"/>
            <a:ext cx="3886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оставления расписаний, определение целей, классифика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648320" y="495288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ножества предметов: скальпели, сканеры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438280" y="28954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514600" y="44956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DC4EB-A613-425B-9E25-04AC71C25B4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Онтологии представления знаний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(1)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The Frame Ontology and the OKBC Ontology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2000" spc="-1" strike="noStrike" u="sng">
                <a:solidFill>
                  <a:srgbClr val="990033"/>
                </a:solidFill>
                <a:uFillTx/>
                <a:latin typeface="Arial"/>
                <a:hlinkClick r:id="rId1"/>
              </a:rPr>
              <a:t>http://ontolingua.stanford.edu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Model and Syntax Specification. W3C Recommend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990033"/>
                </a:solidFill>
                <a:uFillTx/>
                <a:latin typeface="Arial"/>
                <a:hlinkClick r:id="rId2"/>
              </a:rPr>
              <a:t>http://www.w3.org/TR/REC-rdf-syntax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RDF and RDF Schema knowledge representation ontolo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ru-RU" sz="2000" spc="-1" strike="noStrike" u="sng">
                <a:solidFill>
                  <a:srgbClr val="990033"/>
                </a:solidFill>
                <a:uFillTx/>
                <a:latin typeface="Times New Roman"/>
                <a:hlinkClick r:id="rId3"/>
              </a:rPr>
              <a:t>http://www.w3.org/1999/02/22-rdf-syntax-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990033"/>
                </a:solidFill>
                <a:uFillTx/>
                <a:latin typeface="Times New Roman"/>
                <a:hlinkClick r:id="rId4"/>
              </a:rPr>
              <a:t>http://www.w3.org/2000/01/rdf-schema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OIL knowledge representation ont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ru-RU" sz="2000" spc="-1" strike="noStrike" u="sng">
                <a:solidFill>
                  <a:srgbClr val="990033"/>
                </a:solidFill>
                <a:uFillTx/>
                <a:latin typeface="Times New Roman"/>
                <a:hlinkClick r:id="rId5"/>
              </a:rPr>
              <a:t>http://www.ontoknowledge.org/oil/rdf-schema/2000/11/10-oil-standard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DAML+OIL knowledge representation ont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2000" spc="-1" strike="noStrike" u="sng">
                <a:solidFill>
                  <a:srgbClr val="990033"/>
                </a:solidFill>
                <a:uFillTx/>
                <a:latin typeface="Arial"/>
                <a:hlinkClick r:id="rId6"/>
              </a:rPr>
              <a:t>http://www.daml.org/2001/03/daml+oil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3033C-8169-4E81-8477-7020C05EF19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Онтологии представления знаний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(2)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267080" y="1600200"/>
            <a:ext cx="449604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OWL knowledge representation ont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http://www.w3.org/2002/07/ow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0" y="2438280"/>
            <a:ext cx="9144000" cy="396252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0" y="2438280"/>
            <a:ext cx="304812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038480" y="2438280"/>
            <a:ext cx="510552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1315F-1088-48CA-AB1F-DC00F57B958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Онтологий верхнего уровня (ОВУ) (1)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Top-level ontologies of universals and particulars (http://webode.dia.fi.upm.es/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Sowa’s top-level ontology (http://www.jfsowa.com/ontology/toplevel.ht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Cyc’s upper ont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http://www.cyc.com/cyc -2-1/cover.htm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The Standard Upper Ontology (SU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http://suo.ieee.org/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29068-9428-4B0D-8E62-0C772FCA69B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Онтологии верхнего уровня (ОВУ) (2)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971640" y="1700280"/>
            <a:ext cx="6913440" cy="3827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C99F7-AEE8-4B38-890D-455CDFA8965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Характеристики онтологий верхнего уровня (ОВУ)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040" y="1699920"/>
            <a:ext cx="792468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бор основных отношений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-419040">
              <a:lnSpc>
                <a:spcPct val="90000"/>
              </a:lnSpc>
              <a:spcBef>
                <a:spcPts val="451"/>
              </a:spcBef>
              <a:spcAft>
                <a:spcPts val="601"/>
              </a:spcAft>
              <a:buClr>
                <a:srgbClr val="cccc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ерархическ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399960">
              <a:lnSpc>
                <a:spcPct val="90000"/>
              </a:lnSpc>
              <a:spcBef>
                <a:spcPts val="425"/>
              </a:spcBef>
              <a:spcAft>
                <a:spcPts val="601"/>
              </a:spcAft>
              <a:buClr>
                <a:srgbClr val="b2b2b2"/>
              </a:buClr>
              <a:buSzPct val="5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класс-подкласс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399960">
              <a:lnSpc>
                <a:spcPct val="90000"/>
              </a:lnSpc>
              <a:spcBef>
                <a:spcPts val="425"/>
              </a:spcBef>
              <a:spcAft>
                <a:spcPts val="601"/>
              </a:spcAft>
              <a:buClr>
                <a:srgbClr val="b2b2b2"/>
              </a:buClr>
              <a:buSzPct val="5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часть-целое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-419040">
              <a:lnSpc>
                <a:spcPct val="90000"/>
              </a:lnSpc>
              <a:spcBef>
                <a:spcPts val="451"/>
              </a:spcBef>
              <a:spcAft>
                <a:spcPts val="601"/>
              </a:spcAft>
              <a:buClr>
                <a:srgbClr val="cccc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ссоциатив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ипичные концепты и принципы разделени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-419040">
              <a:lnSpc>
                <a:spcPct val="90000"/>
              </a:lnSpc>
              <a:spcBef>
                <a:spcPts val="451"/>
              </a:spcBef>
              <a:spcAft>
                <a:spcPts val="601"/>
              </a:spcAft>
              <a:buClr>
                <a:srgbClr val="cccc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ущ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-419040">
              <a:lnSpc>
                <a:spcPct val="90000"/>
              </a:lnSpc>
              <a:spcBef>
                <a:spcPts val="451"/>
              </a:spcBef>
              <a:spcAft>
                <a:spcPts val="601"/>
              </a:spcAft>
              <a:buClr>
                <a:srgbClr val="cccc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Явл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-419040">
              <a:lnSpc>
                <a:spcPct val="90000"/>
              </a:lnSpc>
              <a:spcBef>
                <a:spcPts val="451"/>
              </a:spcBef>
              <a:spcAft>
                <a:spcPts val="601"/>
              </a:spcAft>
              <a:buClr>
                <a:srgbClr val="cccc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ъек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-419040">
              <a:lnSpc>
                <a:spcPct val="90000"/>
              </a:lnSpc>
              <a:spcBef>
                <a:spcPts val="451"/>
              </a:spcBef>
              <a:spcAft>
                <a:spcPts val="601"/>
              </a:spcAft>
              <a:buClr>
                <a:srgbClr val="cccc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цес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-419040">
              <a:lnSpc>
                <a:spcPct val="90000"/>
              </a:lnSpc>
              <a:spcBef>
                <a:spcPts val="451"/>
              </a:spcBef>
              <a:spcAft>
                <a:spcPts val="601"/>
              </a:spcAft>
              <a:buClr>
                <a:srgbClr val="cccc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о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целенность на многократное повторное использование онтолог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150D6-4134-4DDE-BA83-D16C9FF2BDC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20T10:10:36Z</dcterms:created>
  <dc:creator>Мирослав</dc:creator>
  <dc:description/>
  <dc:language>en-US</dc:language>
  <cp:lastModifiedBy>Vladimir</cp:lastModifiedBy>
  <dcterms:modified xsi:type="dcterms:W3CDTF">2006-07-23T05:35:33Z</dcterms:modified>
  <cp:revision>141</cp:revision>
  <dc:subject/>
  <dc:title>Редакторы онтологий</dc:title>
</cp:coreProperties>
</file>