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DECD-8CE8-41B9-95FE-D205CE99E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A53E-4677-49C7-8E0D-7D53386A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ADDC-708F-4EEC-BB45-977666A90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B1A0-DED5-4F6B-A623-9017DCD5F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6A8B-86C1-4EE8-BD4D-1EE7BB30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7221-A234-4422-8644-6759D500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F92C-013D-4272-AE4E-21DC98CF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5121-3373-4842-A6EA-BDE745C0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8D37-4C25-400A-A8E7-5573E7E2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6359-1679-4B13-B3A8-8155F954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CD72-B5A5-41E5-87B9-035BEF2D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8E49-7584-4F64-8F5A-F49C3A2E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A97F-7ABF-4C83-B811-9C1D7F9C9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ksl.stanford.edu/software/ontolingua/" TargetMode="External"/><Relationship Id="rId2" Type="http://schemas.openxmlformats.org/officeDocument/2006/relationships/hyperlink" Target="http://www.ksl.stanford.edu/software/ontolingua/" TargetMode="External"/><Relationship Id="rId3" Type="http://schemas.openxmlformats.org/officeDocument/2006/relationships/hyperlink" Target="http://www.ksl.stanford.edu/software/ontolingua/" TargetMode="External"/><Relationship Id="rId4" Type="http://schemas.openxmlformats.org/officeDocument/2006/relationships/hyperlink" Target="http://www.ksl.stanford.edu/software/ontolingua/" TargetMode="External"/><Relationship Id="rId5" Type="http://schemas.openxmlformats.org/officeDocument/2006/relationships/hyperlink" Target="http://www.ksl.stanford.edu/software/ontolingua/" TargetMode="External"/><Relationship Id="rId6" Type="http://schemas.openxmlformats.org/officeDocument/2006/relationships/hyperlink" Target="http://www.ksl.stanford.edu/software/ontolingua/" TargetMode="External"/><Relationship Id="rId7" Type="http://schemas.openxmlformats.org/officeDocument/2006/relationships/hyperlink" Target="http://www.ksl.stanford.edu/software/ontolingua/" TargetMode="External"/><Relationship Id="rId8" Type="http://schemas.openxmlformats.org/officeDocument/2006/relationships/hyperlink" Target="http://www.ksl.stanford.edu/software/ontolingua/" TargetMode="External"/><Relationship Id="rId9" Type="http://schemas.openxmlformats.org/officeDocument/2006/relationships/hyperlink" Target="http://www.ksl.stanford.edu/software/ontolingua/" TargetMode="External"/><Relationship Id="rId10" Type="http://schemas.openxmlformats.org/officeDocument/2006/relationships/hyperlink" Target="http://www.ksl.stanford.edu/software/ontolingua/" TargetMode="External"/><Relationship Id="rId11" Type="http://schemas.openxmlformats.org/officeDocument/2006/relationships/hyperlink" Target="http://www.ksl.stanford.edu/software/ontolingua/" TargetMode="External"/><Relationship Id="rId12" Type="http://schemas.openxmlformats.org/officeDocument/2006/relationships/hyperlink" Target="http://www.ksl.stanford.edu/software/ontolingua/" TargetMode="External"/><Relationship Id="rId13" Type="http://schemas.openxmlformats.org/officeDocument/2006/relationships/hyperlink" Target="http://www.ksl.stanford.edu/software/ontolingua/" TargetMode="External"/><Relationship Id="rId14" Type="http://schemas.openxmlformats.org/officeDocument/2006/relationships/hyperlink" Target="http://www.ksl.stanford.edu/software/ontolingua/" TargetMode="External"/><Relationship Id="rId15" Type="http://schemas.openxmlformats.org/officeDocument/2006/relationships/hyperlink" Target="http://www.daml.org/ontologies/" TargetMode="External"/><Relationship Id="rId16" Type="http://schemas.openxmlformats.org/officeDocument/2006/relationships/hyperlink" Target="http://www.daml.org/ontologies/" TargetMode="External"/><Relationship Id="rId17" Type="http://schemas.openxmlformats.org/officeDocument/2006/relationships/hyperlink" Target="http://www.daml.org/ontologies/" TargetMode="External"/><Relationship Id="rId18" Type="http://schemas.openxmlformats.org/officeDocument/2006/relationships/hyperlink" Target="http://www.daml.org/ontologies/" TargetMode="External"/><Relationship Id="rId19" Type="http://schemas.openxmlformats.org/officeDocument/2006/relationships/hyperlink" Target="http://www.daml.org/ontologies/" TargetMode="External"/><Relationship Id="rId20" Type="http://schemas.openxmlformats.org/officeDocument/2006/relationships/hyperlink" Target="http://www.daml.org/ontologies/" TargetMode="External"/><Relationship Id="rId21" Type="http://schemas.openxmlformats.org/officeDocument/2006/relationships/hyperlink" Target="http://www.daml.org/ontologies/" TargetMode="External"/><Relationship Id="rId22" Type="http://schemas.openxmlformats.org/officeDocument/2006/relationships/hyperlink" Target="http://www.daml.org/ontologies/" TargetMode="External"/><Relationship Id="rId23" Type="http://schemas.openxmlformats.org/officeDocument/2006/relationships/hyperlink" Target="http://www.daml.org/ontologies/" TargetMode="External"/><Relationship Id="rId24" Type="http://schemas.openxmlformats.org/officeDocument/2006/relationships/hyperlink" Target="http://www.daml.org/ontologies/" TargetMode="External"/><Relationship Id="rId25" Type="http://schemas.openxmlformats.org/officeDocument/2006/relationships/hyperlink" Target="http://www.dmoz.org/" TargetMode="External"/><Relationship Id="rId26" Type="http://schemas.openxmlformats.org/officeDocument/2006/relationships/hyperlink" Target="http://www.dmoz.org/" TargetMode="External"/><Relationship Id="rId27" Type="http://schemas.openxmlformats.org/officeDocument/2006/relationships/hyperlink" Target="http://www.dmoz.org/" TargetMode="External"/><Relationship Id="rId28" Type="http://schemas.openxmlformats.org/officeDocument/2006/relationships/hyperlink" Target="http://www.dmoz.org/" TargetMode="External"/><Relationship Id="rId29" Type="http://schemas.openxmlformats.org/officeDocument/2006/relationships/hyperlink" Target="http://www.dmoz.org/" TargetMode="External"/><Relationship Id="rId3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1981080"/>
            <a:ext cx="8001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 Примеры онтологи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нтология вин и пищи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нтология вина и е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ласть онтологии – представление еды и ви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ложения: сочетания еды и в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ключае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личные типы вин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новные виды еды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нятие хорошего и плохого сочетания вина и е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включае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вентар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сон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 для проверки компетентн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акие характеристики вина мне следует учитывать при выборе вин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ин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Bordeau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асное или бело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Хорошо ли сочетаетс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Caberne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auvigno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морскими продуктам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акое вино лучше всего подойдет к жареному мясу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Какие характеристики вина влияют на его сочетаемость с блюдом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Влияет ли 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год производства ви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его букет или крепость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7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ие урожа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Nap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Zinfande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ли хороши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Шаг 2. Рассмотрение вариантов повторного использования существующих онтолог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иблиотека онтолог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Ontolingu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(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2"/>
              </a:rPr>
              <a:t>://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3"/>
              </a:rPr>
              <a:t>www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4"/>
              </a:rPr>
              <a:t>.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5"/>
              </a:rPr>
              <a:t>ksl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6"/>
              </a:rPr>
              <a:t>.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7"/>
              </a:rPr>
              <a:t>stanford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8"/>
              </a:rPr>
              <a:t>.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9"/>
              </a:rPr>
              <a:t>edu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10"/>
              </a:rPr>
              <a:t>/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11"/>
              </a:rPr>
              <a:t>software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12"/>
              </a:rPr>
              <a:t>/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13"/>
              </a:rPr>
              <a:t>ontolingua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14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иблиотека онтологи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DAML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(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15"/>
              </a:rPr>
              <a:t>http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16"/>
              </a:rPr>
              <a:t>://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17"/>
              </a:rPr>
              <a:t>www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18"/>
              </a:rPr>
              <a:t>.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19"/>
              </a:rPr>
              <a:t>daml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20"/>
              </a:rPr>
              <a:t>.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21"/>
              </a:rPr>
              <a:t>org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22"/>
              </a:rPr>
              <a:t>/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23"/>
              </a:rPr>
              <a:t>ontologies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24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щедоступные коммерческие онтолог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наприме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UNSPS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www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unsps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org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)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RosettaNe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www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rosettane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org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)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DMO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(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25"/>
              </a:rPr>
              <a:t>www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26"/>
              </a:rPr>
              <a:t>.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27"/>
              </a:rPr>
              <a:t>dmoz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28"/>
              </a:rPr>
              <a:t>.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29"/>
              </a:rPr>
              <a:t>org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аза французских вин может существоват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3. Перечисление важных терминов в онтолог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и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виногр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винный зав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цвет вина, крепость, вкус, содержание саха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ипы в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ипы еды: рыба, мяс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4. Определение классов и иерархии класс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исходящая разработ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чиная с общих понят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ходящая разработ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вижение от конкретных класс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бинированная разработ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82888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16000" y="444600"/>
            <a:ext cx="701028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рганизация классов в таксономи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прос: если объект является экземпляром одного класса, будет ли он обязательно (т.е. по определению экземпляром некоторого другого клас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Если класс А – надкласс класса В, то каждый экземпляр класса В также является экземпляром 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ждое вин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Pino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Noi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язательно красное вино. Поэтому клас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SimSun"/>
              </a:rPr>
              <a:t>Pinot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SimSun"/>
              </a:rPr>
              <a:t>Noir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класс класса 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Красное вин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5. Определение свойств классов – слот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исание внутренне структуры понятий – свой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вет вина, крепость, вкус, содержание сахара, местоположение винного зав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асс Вино – слоты: цвет, крепость, вкус, содержание саха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асс Винный завод - местополож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ипы слот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нутренние свойства – вкус в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нешние свойств – область, им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ас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нош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07648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MAGE006" descr=""/>
          <p:cNvPicPr/>
          <p:nvPr/>
        </p:nvPicPr>
        <p:blipFill>
          <a:blip r:embed="rId1"/>
          <a:stretch/>
        </p:blipFill>
        <p:spPr>
          <a:xfrm>
            <a:off x="0" y="2308320"/>
            <a:ext cx="914400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нтология вин и еды и их сочет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зработка онтологий 101: рководство по созданию Вашей первой онтолог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алья Ф. Ной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Nataly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No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и Дэбора Л. МакГиннесс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Deborah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McGuinness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ды для редактирования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ÉGÉ, Ontolingu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ma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аследование свойст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е слоты наследуются подклассами клас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овень танина – слот для класса Красное ви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пределение фацетов слотов (ограничений на слоты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ип знач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ойства знач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ичество знач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нный завод – слот производит – множественные значения – тип значения - ви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щность значе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которые системы: единственное или множествен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зможности других сист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инимальная мощ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ксимальная мощ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ип значения сл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о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ис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улево знач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умерованные слоты (один из множеств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оты-экземпляры – ссылка на 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0992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IMAGE008" descr=""/>
          <p:cNvPicPr/>
          <p:nvPr/>
        </p:nvPicPr>
        <p:blipFill>
          <a:blip r:embed="rId1"/>
          <a:stretch/>
        </p:blipFill>
        <p:spPr>
          <a:xfrm>
            <a:off x="380880" y="439560"/>
            <a:ext cx="8534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Шаг 7. Создание экземпляр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(1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ыбрать клас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(2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ть отдельный экземпляр этого класс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(3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вести значения сло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09556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IMAGE010" descr=""/>
          <p:cNvPicPr/>
          <p:nvPr/>
        </p:nvPicPr>
        <p:blipFill>
          <a:blip r:embed="rId1"/>
          <a:stretch/>
        </p:blipFill>
        <p:spPr>
          <a:xfrm>
            <a:off x="228600" y="1173240"/>
            <a:ext cx="807732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пределении классов и иерархии класс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звитие иерархии класс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Zinfandel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подкласс красных в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али делать - бел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Zinfandel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озового цве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асс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Zinfandel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збивается на 2 класс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лое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Zinfandel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асно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Zinfandel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. Телефонная связ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лассы и их име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жно различать класс и его им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ассы представляют понятия предметной области, а не те слова, которые обозначают эти поня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нонимы одного и того же понятия не представляют разные класс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нонимы – всего лишь разные имена поня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зможные прилож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исок вин для меню на текущий ден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ализ инвентарного перечня винного погреба и предложение категорий вин для пополнения и конкретные вина для закуп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требуется работы с текст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колько должно быть прямых подкласс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Если класс имеет только один прямой подкласс, то, возможно, при моделировании допущена ошибка или онтология неполная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Если у данного класса есть более десятка подклассов, то, возможно, необходимы дополнительные промежуточные категор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49084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image012" descr=""/>
          <p:cNvPicPr/>
          <p:nvPr/>
        </p:nvPicPr>
        <p:blipFill>
          <a:blip r:embed="rId1"/>
          <a:stretch/>
        </p:blipFill>
        <p:spPr>
          <a:xfrm>
            <a:off x="0" y="2028960"/>
            <a:ext cx="9144000" cy="21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ножественное наследов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асс – является подклассом нескольких класс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но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асное вино, десертное ви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следует значение СЛАДКОЕ из слота СОДЕРЖАНИЕ САХАРА от класса ДЕСЕРТНОЕ ВИ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следует слот УРОВЕНЬ ТАНИНА и цвет класса КРАСНОЕ ВИ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огда вводить (или не вводить) новый клас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обходимость класс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ть слот, которого нет у други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граничения на слот, отличные от други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меют другие отнош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асные вина – уровень тан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сертное вино – значение слота СОДЕРЖАНИЕ САХАРА – сладк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ычно новый класс добавляет новую информаци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овый класс или значение свойст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ть ли нам класс Белое вино или просто создать класс ВИНО и ввести различные значения слота ЦВЕТ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сколько важно Белое вино для обла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Если понятия с разными значениями слота становятся ограничениями для различных слотов в других классах, то для разделения нам следует создать новый класс. В противном случае разделение представляется в значении 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зменчивость свойст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часто экземпляр класса меняет свойст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хлажденное ви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вет вина – обычное описание цве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Экземпляр или клас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дельные экземпляры – это самые конкретные сущности, представленные в баз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висит от прилож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подбор вина и еды, то экземпляры – конкретные названия в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нужно еще следить за закупкой, то экземпляр конкретная бутылка в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граничение масштаб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нтология не должна содержать всю возможную информацию о предметной области: не нужно конкретизировать или обобщать больше, чем это нужно для приложения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е более 1 дополнительного уровня в каждую сторону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е нужно знать, из какой бумаги этикетки или как готовятся кревет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изъюнктивные клас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может быть общих экземпляров - несовместим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лое вино и Десертное вино – не дизъюнктивные класс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асное и Белое вино дизъюнктив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ополнительные свойства слот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тные сло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чения слотов по умолчани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чение для большин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нтолог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130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альное явное описание понятий в рассматриваемой предметной обла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лассов (иногда их называют понятиями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ойств и атрибутов каждого понят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отов,  иногда их называемых ролям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граничений, наложенных на слоты (фацето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= ограничения ро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нтология вместе с набором индивидуальных экземпляров образует базу зна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реймовая система описания онтолог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носительно простые онтологии – небольшое количество разных типов сущност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обрабатывать электронные текстовые коллекции – большое количество различных типов сущност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удно (невозможно) описать с помощью фрейм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ы к лек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числите этапы процесса проектирования онтологии (по Н.Ф. Ной и Д.Л. МакГиннесс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овите основные шаги при создании онтологии вин и пищ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ие на ваш взгляд ограничения существуют для применения онтологии вин и пищ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лассы = пон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ассы в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классы: красные, белые и розовые в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ругое основание деления: игристые и неигристые в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л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но  - крепкое, производится на таком-то завод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оты у экземпляров класса В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ку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еп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ровень саха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изводитель в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чение – винный зав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Этапы разработки онтолог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ение классов в онтолог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положение классов в таксономическую иерархию (подкласс – надкласс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лотов и описание допускаемых значений этих слот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полнение значений слотов экземпляр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2904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image002" descr=""/>
          <p:cNvPicPr/>
          <p:nvPr/>
        </p:nvPicPr>
        <p:blipFill>
          <a:blip r:embed="rId1"/>
          <a:stretch/>
        </p:blipFill>
        <p:spPr>
          <a:xfrm>
            <a:off x="609480" y="993600"/>
            <a:ext cx="7696440" cy="55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1. Определение области и масштаба онтолог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ю область будет охватывать онтология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Для чего мы собираемся использовать онтологию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какие типы вопросов должна давать ответы информация в онтологи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будет использовать и поддерживать онтологию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16:26:58Z</dcterms:created>
  <dc:creator>boris</dc:creator>
  <dc:description/>
  <dc:language>en-US</dc:language>
  <cp:lastModifiedBy>Vladimir</cp:lastModifiedBy>
  <dcterms:modified xsi:type="dcterms:W3CDTF">2006-07-23T05:46:32Z</dcterms:modified>
  <cp:revision>33</cp:revision>
  <dc:subject/>
  <dc:title>Онтологии и автоматическая обработка текстов -5</dc:title>
</cp:coreProperties>
</file>