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D1E-7972-4ACD-B3CE-EDB8DDD6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B7C-BA8C-497A-923E-3CAB462A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B5A-D525-4E99-B544-428F8E40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A74-1211-4A18-A4D2-D6F78A76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3DA-7F6D-4BBB-87EC-854AC0E5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867-34E0-46F1-B69A-C64A4134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CE8-B878-453C-A918-76AB50F9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E8B-7E05-4C64-8CB8-EFEA04B8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5DA-491E-491F-BA4D-B2CAF811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7D8-1E18-4ABA-92AB-581B6683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A23-A4AC-477A-9DB6-C3B95E7D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20C-9111-4F59-B7D5-C72ED840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marL="130320" indent="-1303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080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48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094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fld id="{E9724DF1-9E2A-40E1-856B-E37326DFD5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90720"/>
            <a:ext cx="36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362320"/>
            <a:ext cx="9907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914040" y="914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360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9144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21932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752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3800" y="2057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320" y="24382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9480" y="1828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8680" y="1905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28600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37:13Z</dcterms:created>
  <dc:creator>Brian McBride</dc:creator>
  <dc:description/>
  <dc:language>en-US</dc:language>
  <cp:lastModifiedBy>Brian McBride</cp:lastModifiedBy>
  <dcterms:modified xsi:type="dcterms:W3CDTF">2002-03-24T17:40:27Z</dcterms:modified>
  <cp:revision>3</cp:revision>
  <dc:subject/>
  <dc:title>PowerPoint Presentation</dc:title>
</cp:coreProperties>
</file>