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49588" cy="304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3410-CCCF-46CB-A2AC-378A48EDB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183636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3517-27CF-4603-B2DF-84F9BC35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5628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6F36-274E-46A0-978E-9A3A056C3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448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8072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0448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8072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E237-786D-48F4-9D01-4FD3FF8FA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E230-5FE7-41D3-8E09-494B6272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CAE1-BB1C-498C-BD0F-47321E0F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F807-74A5-446C-9D07-5ADD874D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43AF-D23B-4C70-9C9E-6937C97A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271080"/>
            <a:ext cx="25909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3C69-2EE5-495A-B0CC-3DBC5005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BA4D-9146-4368-A450-6CA9314D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5628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D9DC-E988-4573-A365-1623303B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A18B-56EC-42C1-BA1A-0440DD97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 fontScale="87000"/>
          </a:bodyPr>
          <a:p>
            <a:pPr marL="141840" indent="-14184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307800" indent="-11844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473760" indent="-954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662760" indent="-9540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852120" indent="-9504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5" marL="852120" indent="-9504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6" marL="852120" indent="-9504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2776680"/>
            <a:ext cx="635040" cy="20304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Autofit/>
          </a:bodyPr>
          <a:lstStyle>
            <a:lvl1pPr indent="0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41120" y="2776680"/>
            <a:ext cx="965160" cy="20304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Autofit/>
          </a:bodyPr>
          <a:lstStyle>
            <a:lvl1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84480" y="2776680"/>
            <a:ext cx="635040" cy="20304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Autofit/>
          </a:bodyPr>
          <a:lstStyle>
            <a:lvl1pPr indent="0" algn="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fld id="{16FF6745-DA72-4237-BB3C-9A0EB1FB6604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52280"/>
            <a:ext cx="144792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074600"/>
            <a:ext cx="365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1295280"/>
            <a:ext cx="106668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1066680" y="914400"/>
            <a:ext cx="76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2362320"/>
            <a:ext cx="609480" cy="57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2362320"/>
            <a:ext cx="762120" cy="57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04920" y="167652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16765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0440" y="91440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3800" y="20574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1160" y="182880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Gi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91440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1600200"/>
            <a:ext cx="10666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59920" y="99072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17:25:04Z</dcterms:created>
  <dc:creator>Brian McBride</dc:creator>
  <dc:description/>
  <dc:language>en-US</dc:language>
  <cp:lastModifiedBy>Brian McBride</cp:lastModifiedBy>
  <dcterms:modified xsi:type="dcterms:W3CDTF">2002-03-24T17:51:18Z</dcterms:modified>
  <cp:revision>2</cp:revision>
  <dc:subject/>
  <dc:title>PowerPoint Presentation</dc:title>
</cp:coreProperties>
</file>