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572000" cy="304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7777-ED8F-4DAE-9FE8-92F9DA1D8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38862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1836360"/>
            <a:ext cx="38862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D398-BCF1-4021-B055-C70C72E5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183636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333880" y="183636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D3BF-D754-4C06-8F03-548A1134B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56720" y="88092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70720" y="88092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183636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656720" y="183636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970720" y="183636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B3E6-6A6C-44D7-9F8B-7D570FB53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880920"/>
            <a:ext cx="38862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FDD7-D3A8-4966-B8C7-BD7ED5EC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388620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2D4C-E304-4D42-A027-A2234C58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F3FB-AC2D-4582-839B-129576C5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8259-474E-4BEB-8575-DFB59632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271080"/>
            <a:ext cx="38862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70BC-B4DA-4B9E-8916-88C2EDFC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183636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DFB0-7B63-4EF0-BC8D-DE573131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333880" y="183636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F89E-33A2-4F96-BC12-86935E65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1836360"/>
            <a:ext cx="38862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FAF0-C77B-41F9-817E-BB0F7472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880920"/>
            <a:ext cx="388620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marL="114480" indent="-1144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47680" indent="-9540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-7596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53352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4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5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6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2776680"/>
            <a:ext cx="952200" cy="2030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62040" y="2776680"/>
            <a:ext cx="1447920" cy="2030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76720" y="2776680"/>
            <a:ext cx="952560" cy="2030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 algn="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fld id="{979E7B94-7414-4F18-8523-CA9ED2B0B74F}" type="slidenum"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52280"/>
            <a:ext cx="144792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371600"/>
            <a:ext cx="121932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1143000" y="76212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14600" y="998640"/>
            <a:ext cx="365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960" y="914400"/>
            <a:ext cx="1132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219320"/>
            <a:ext cx="106668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914400"/>
            <a:ext cx="76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286000"/>
            <a:ext cx="60948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2286000"/>
            <a:ext cx="76176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057400" y="160020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160020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8720" y="76212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80320" y="175248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13640" y="175248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Gi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13:47:42Z</dcterms:created>
  <dc:creator>Brian McBride</dc:creator>
  <dc:description/>
  <dc:language>en-US</dc:language>
  <cp:lastModifiedBy>Brian McBride</cp:lastModifiedBy>
  <dcterms:modified xsi:type="dcterms:W3CDTF">2002-03-23T17:07:13Z</dcterms:modified>
  <cp:revision>5</cp:revision>
  <dc:subject/>
  <dc:title>PowerPoint Presentation</dc:title>
</cp:coreProperties>
</file>